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A5B-3FA8-4038-9608-80DDBF9A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D0A-F7B9-42CD-94A4-477D1D43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D63-256C-48AD-B9B2-903C7CE8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BB2-F57E-48E6-876E-7A53F2EE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0005-8DCA-4B91-BB9C-8C707744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D68-7B64-4CDD-A549-469174F6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71B-5BEC-4445-AF77-DA9C67EB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E92A-E4B1-4891-91BE-16B82A76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280-2662-4C12-A315-E0288661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6A0-0C2C-4CE8-B82F-C09A1BA8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B25C-3CDC-40EF-96DB-743F2CF5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C01-1608-4231-B5B1-2E13603A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95E1-24D0-4E86-A0AF-0C13BF73C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409920" y="160020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8062920" y="38289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791320" y="10857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14778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tesian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90760" y="2421000"/>
            <a:ext cx="2590920" cy="642600"/>
            <a:chOff x="3290760" y="2421000"/>
            <a:chExt cx="2590920" cy="642600"/>
          </a:xfrm>
        </p:grpSpPr>
        <p:sp>
          <p:nvSpPr>
            <p:cNvPr id="46" name=""/>
            <p:cNvSpPr/>
            <p:nvPr/>
          </p:nvSpPr>
          <p:spPr>
            <a:xfrm>
              <a:off x="4662360" y="2801520"/>
              <a:ext cx="1219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90760" y="2421000"/>
              <a:ext cx="12952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axi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738840" y="4100040"/>
            <a:ext cx="1371600" cy="1525320"/>
            <a:chOff x="6738840" y="4100040"/>
            <a:chExt cx="1371600" cy="1525320"/>
          </a:xfrm>
        </p:grpSpPr>
        <p:sp>
          <p:nvSpPr>
            <p:cNvPr id="49" name=""/>
            <p:cNvSpPr/>
            <p:nvPr/>
          </p:nvSpPr>
          <p:spPr>
            <a:xfrm>
              <a:off x="6738840" y="4982760"/>
              <a:ext cx="13716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axi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7272360" y="4100040"/>
              <a:ext cx="0" cy="9903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886200" y="461628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ori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37400" y="4025880"/>
            <a:ext cx="182520" cy="1825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2080" y="210024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é Descartes (1596-16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3808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Points and their Coordin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181480" y="4206600"/>
            <a:ext cx="655920" cy="5173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28600"/>
            <a:ext cx="60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artesian Plane is divided into 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four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quadran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440" y="2359080"/>
            <a:ext cx="581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4400" y="2349360"/>
            <a:ext cx="681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4768920"/>
            <a:ext cx="762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0" y="4813200"/>
            <a:ext cx="838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152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lotting Points in the Cartesian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7430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, 6) is an example of an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rdered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28640" y="1371240"/>
            <a:ext cx="2438280" cy="1739880"/>
            <a:chOff x="728640" y="1371240"/>
            <a:chExt cx="2438280" cy="1739880"/>
          </a:xfrm>
        </p:grpSpPr>
        <p:sp>
          <p:nvSpPr>
            <p:cNvPr id="64" name=""/>
            <p:cNvSpPr/>
            <p:nvPr/>
          </p:nvSpPr>
          <p:spPr>
            <a:xfrm flipV="1">
              <a:off x="1033560" y="1371240"/>
              <a:ext cx="0" cy="11430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8640" y="259056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coordin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371600" y="1371240"/>
            <a:ext cx="2514600" cy="1054080"/>
            <a:chOff x="1371600" y="1371240"/>
            <a:chExt cx="2514600" cy="1054080"/>
          </a:xfrm>
        </p:grpSpPr>
        <p:sp>
          <p:nvSpPr>
            <p:cNvPr id="67" name=""/>
            <p:cNvSpPr/>
            <p:nvPr/>
          </p:nvSpPr>
          <p:spPr>
            <a:xfrm flipV="1">
              <a:off x="1523880" y="1371240"/>
              <a:ext cx="0" cy="5331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71600" y="1904760"/>
              <a:ext cx="25146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coordin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358040" y="225756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1949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5, 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915160" y="4114440"/>
            <a:ext cx="1552320" cy="4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97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405560" y="2438280"/>
            <a:ext cx="0" cy="1681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62720" y="2771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228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lotting Points in the Cartesian Pl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640" y="8380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, 6) is an example of an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rdered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28640" y="1371240"/>
            <a:ext cx="2438280" cy="1739880"/>
            <a:chOff x="728640" y="1371240"/>
            <a:chExt cx="2438280" cy="1739880"/>
          </a:xfrm>
        </p:grpSpPr>
        <p:sp>
          <p:nvSpPr>
            <p:cNvPr id="78" name=""/>
            <p:cNvSpPr/>
            <p:nvPr/>
          </p:nvSpPr>
          <p:spPr>
            <a:xfrm flipV="1">
              <a:off x="1033560" y="1371240"/>
              <a:ext cx="0" cy="11430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28640" y="259056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coordin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371600" y="1371240"/>
            <a:ext cx="2514600" cy="1054080"/>
            <a:chOff x="1371600" y="1371240"/>
            <a:chExt cx="2514600" cy="1054080"/>
          </a:xfrm>
        </p:grpSpPr>
        <p:sp>
          <p:nvSpPr>
            <p:cNvPr id="81" name=""/>
            <p:cNvSpPr/>
            <p:nvPr/>
          </p:nvSpPr>
          <p:spPr>
            <a:xfrm flipV="1">
              <a:off x="1523880" y="1371240"/>
              <a:ext cx="0" cy="5331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71600" y="1904760"/>
              <a:ext cx="25146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coordin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358040" y="225756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1949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5, 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8080" y="2430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(x, 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62120" y="947880"/>
            <a:ext cx="2133360" cy="1706400"/>
            <a:chOff x="762120" y="947880"/>
            <a:chExt cx="2133360" cy="1706400"/>
          </a:xfrm>
        </p:grpSpPr>
        <p:sp>
          <p:nvSpPr>
            <p:cNvPr id="87" name=""/>
            <p:cNvSpPr/>
            <p:nvPr/>
          </p:nvSpPr>
          <p:spPr>
            <a:xfrm flipV="1">
              <a:off x="1219320" y="94788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213372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 the do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3880" y="956880"/>
            <a:ext cx="2819160" cy="1054440"/>
            <a:chOff x="1523880" y="956880"/>
            <a:chExt cx="2819160" cy="1054440"/>
          </a:xfrm>
        </p:grpSpPr>
        <p:sp>
          <p:nvSpPr>
            <p:cNvPr id="90" name=""/>
            <p:cNvSpPr/>
            <p:nvPr/>
          </p:nvSpPr>
          <p:spPr>
            <a:xfrm>
              <a:off x="1523880" y="1490760"/>
              <a:ext cx="28191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up the elevat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752480" y="95688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14600" y="3808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is like entering a hotel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048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– 3, 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981320" y="4108320"/>
            <a:ext cx="942840" cy="64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29200" y="2971800"/>
            <a:ext cx="0" cy="11239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519360" y="2468520"/>
            <a:ext cx="2286000" cy="581400"/>
            <a:chOff x="3519360" y="2468520"/>
            <a:chExt cx="2286000" cy="581400"/>
          </a:xfrm>
        </p:grpSpPr>
        <p:sp>
          <p:nvSpPr>
            <p:cNvPr id="97" name=""/>
            <p:cNvSpPr/>
            <p:nvPr/>
          </p:nvSpPr>
          <p:spPr>
            <a:xfrm>
              <a:off x="4948200" y="284796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19360" y="246852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– 3, 4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066680" y="3673440"/>
            <a:ext cx="2133360" cy="1706400"/>
            <a:chOff x="1066680" y="3673440"/>
            <a:chExt cx="2133360" cy="1706400"/>
          </a:xfrm>
        </p:grpSpPr>
        <p:sp>
          <p:nvSpPr>
            <p:cNvPr id="100" name=""/>
            <p:cNvSpPr/>
            <p:nvPr/>
          </p:nvSpPr>
          <p:spPr>
            <a:xfrm flipV="1">
              <a:off x="1523880" y="367344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66680" y="485928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eft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981080" y="3733920"/>
            <a:ext cx="2819160" cy="1053720"/>
            <a:chOff x="1981080" y="3733920"/>
            <a:chExt cx="2819160" cy="1053720"/>
          </a:xfrm>
        </p:grpSpPr>
        <p:sp>
          <p:nvSpPr>
            <p:cNvPr id="103" name=""/>
            <p:cNvSpPr/>
            <p:nvPr/>
          </p:nvSpPr>
          <p:spPr>
            <a:xfrm>
              <a:off x="1981080" y="426708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up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2209680" y="3733920"/>
              <a:ext cx="0" cy="609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91160" y="3332160"/>
            <a:ext cx="263520" cy="560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24320" y="4260960"/>
            <a:ext cx="560520" cy="26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72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Plot the following poi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5440" y="11430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– 4, 6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724280" y="2361960"/>
            <a:ext cx="1206720" cy="1740240"/>
            <a:chOff x="4724280" y="2361960"/>
            <a:chExt cx="1206720" cy="1740240"/>
          </a:xfrm>
        </p:grpSpPr>
        <p:sp>
          <p:nvSpPr>
            <p:cNvPr id="110" name=""/>
            <p:cNvSpPr/>
            <p:nvPr/>
          </p:nvSpPr>
          <p:spPr>
            <a:xfrm flipH="1">
              <a:off x="4724280" y="4102200"/>
              <a:ext cx="1206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724280" y="2361960"/>
              <a:ext cx="0" cy="17269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660920" y="2260440"/>
            <a:ext cx="15228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35200" y="1986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 4,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9051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, – 3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943600" y="4100400"/>
            <a:ext cx="609480" cy="852480"/>
            <a:chOff x="5943600" y="4100400"/>
            <a:chExt cx="609480" cy="852480"/>
          </a:xfrm>
        </p:grpSpPr>
        <p:sp>
          <p:nvSpPr>
            <p:cNvPr id="116" name=""/>
            <p:cNvSpPr/>
            <p:nvPr/>
          </p:nvSpPr>
          <p:spPr>
            <a:xfrm flipV="1">
              <a:off x="5943600" y="4100400"/>
              <a:ext cx="609480" cy="144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4129200"/>
              <a:ext cx="0" cy="823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477120" y="494028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00880" y="4981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 –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698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– 6, – 4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152960" y="4114800"/>
            <a:ext cx="1713960" cy="1143000"/>
            <a:chOff x="4152960" y="4114800"/>
            <a:chExt cx="1713960" cy="1143000"/>
          </a:xfrm>
        </p:grpSpPr>
        <p:sp>
          <p:nvSpPr>
            <p:cNvPr id="122" name=""/>
            <p:cNvSpPr/>
            <p:nvPr/>
          </p:nvSpPr>
          <p:spPr>
            <a:xfrm flipH="1">
              <a:off x="4165200" y="4114800"/>
              <a:ext cx="1701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52960" y="4114800"/>
              <a:ext cx="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089240" y="5207040"/>
            <a:ext cx="15264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4905360"/>
            <a:ext cx="152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 6, –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537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7,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943600" y="3276360"/>
            <a:ext cx="2070000" cy="838440"/>
            <a:chOff x="5943600" y="3276360"/>
            <a:chExt cx="2070000" cy="838440"/>
          </a:xfrm>
        </p:grpSpPr>
        <p:sp>
          <p:nvSpPr>
            <p:cNvPr id="128" name=""/>
            <p:cNvSpPr/>
            <p:nvPr/>
          </p:nvSpPr>
          <p:spPr>
            <a:xfrm>
              <a:off x="5943600" y="4114800"/>
              <a:ext cx="20574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8013600" y="3276360"/>
              <a:ext cx="0" cy="812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937640" y="313704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3432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,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5486400"/>
            <a:ext cx="784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se points all lie in different quadr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591192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do you notice about their coordina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3049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Plot the following poi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9810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0, 6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695840" y="1871640"/>
            <a:ext cx="1447920" cy="538200"/>
            <a:chOff x="4695840" y="1871640"/>
            <a:chExt cx="1447920" cy="538200"/>
          </a:xfrm>
        </p:grpSpPr>
        <p:sp>
          <p:nvSpPr>
            <p:cNvPr id="137" name=""/>
            <p:cNvSpPr/>
            <p:nvPr/>
          </p:nvSpPr>
          <p:spPr>
            <a:xfrm>
              <a:off x="5848560" y="225756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95840" y="18716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0,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85800" y="1187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, 0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853240" y="4705200"/>
            <a:ext cx="1523880" cy="459720"/>
            <a:chOff x="5853240" y="4705200"/>
            <a:chExt cx="1523880" cy="459720"/>
          </a:xfrm>
        </p:grpSpPr>
        <p:sp>
          <p:nvSpPr>
            <p:cNvPr id="141" name=""/>
            <p:cNvSpPr/>
            <p:nvPr/>
          </p:nvSpPr>
          <p:spPr>
            <a:xfrm>
              <a:off x="5853240" y="4948200"/>
              <a:ext cx="15228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81840" y="47052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0, – 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5800" y="2819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– 7, 0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43360" y="4038480"/>
            <a:ext cx="1828800" cy="674280"/>
            <a:chOff x="2943360" y="4038480"/>
            <a:chExt cx="1828800" cy="674280"/>
          </a:xfrm>
        </p:grpSpPr>
        <p:sp>
          <p:nvSpPr>
            <p:cNvPr id="145" name=""/>
            <p:cNvSpPr/>
            <p:nvPr/>
          </p:nvSpPr>
          <p:spPr>
            <a:xfrm>
              <a:off x="3781440" y="4038480"/>
              <a:ext cx="152280" cy="152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43360" y="425304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– 7, 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85800" y="3733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0, –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191360" y="3591000"/>
            <a:ext cx="1295280" cy="609120"/>
            <a:chOff x="7191360" y="3591000"/>
            <a:chExt cx="1295280" cy="609120"/>
          </a:xfrm>
        </p:grpSpPr>
        <p:sp>
          <p:nvSpPr>
            <p:cNvPr id="149" name=""/>
            <p:cNvSpPr/>
            <p:nvPr/>
          </p:nvSpPr>
          <p:spPr>
            <a:xfrm>
              <a:off x="7343640" y="4047840"/>
              <a:ext cx="15264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1360" y="3591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5, 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V="1">
            <a:off x="5958000" y="4114440"/>
            <a:ext cx="1371600" cy="46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914800" y="2395440"/>
            <a:ext cx="19080" cy="16956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886200" y="4114800"/>
            <a:ext cx="2076480" cy="93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29200" y="4133880"/>
            <a:ext cx="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360" y="5486400"/>
            <a:ext cx="8153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se points all lie on the axes, not in quadr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040" y="6019920"/>
            <a:ext cx="8305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do you notice about their coordina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01:37:40Z</dcterms:created>
  <dc:creator>Peter Maher</dc:creator>
  <dc:description/>
  <dc:language>en-US</dc:language>
  <cp:lastModifiedBy>hdsb</cp:lastModifiedBy>
  <dcterms:modified xsi:type="dcterms:W3CDTF">2009-11-30T03:30:33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20312006</vt:r8>
  </property>
  <property fmtid="{D5CDD505-2E9C-101B-9397-08002B2CF9AE}" pid="3" name="_AuthorEmail">
    <vt:lpwstr>Sandy.Dilena@EQAO.com</vt:lpwstr>
  </property>
  <property fmtid="{D5CDD505-2E9C-101B-9397-08002B2CF9AE}" pid="4" name="_AuthorEmailDisplayName">
    <vt:lpwstr>Sandy Dilena</vt:lpwstr>
  </property>
  <property fmtid="{D5CDD505-2E9C-101B-9397-08002B2CF9AE}" pid="5" name="_EmailSubject">
    <vt:lpwstr>PPT for TIPS</vt:lpwstr>
  </property>
  <property fmtid="{D5CDD505-2E9C-101B-9397-08002B2CF9AE}" pid="6" name="_ReviewingToolsShownOnce">
    <vt:lpwstr/>
  </property>
</Properties>
</file>