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6AD2-E7C0-4F27-912B-6F0A4774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6B51-188C-4A00-BF26-D0BECB75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E8CB-AD43-421E-B35F-069C76AC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D65E-005F-49E1-B244-7CE022E2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1465-5B66-41B8-B723-55335318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4026-38FA-4570-8435-084ABAB5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81BB-BB3A-4DF6-9952-259904A5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DA14-40A3-44DD-AFFB-F9B84C43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89FE-E0A0-456C-8F65-AF24464B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BDD9-1C9D-4882-A059-E29F9577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199A-7CCE-46E4-AD0C-1598ED6D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7064-B2DE-4A77-8D31-60C8A20E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BC6C-A9F2-4BFE-A2A9-4E82D0F0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FB55-78D3-4F2C-B990-0A4186A5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EDAD-BC27-42EB-84FD-B7A0C67C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61C6-9D7F-4849-9736-87B56F50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AE2F-422B-436D-8A22-112C29F9A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F25A-596B-4456-B95E-8E1A987B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01FD-C404-4862-A3C2-82A3BE53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DCCD-8F94-45CF-B5FC-48BCD482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040B-59E3-4F9D-8A73-E3BEB285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1388-400A-442B-84C0-81ED621C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869D-5B27-463A-9966-4184DF24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059C-3408-4C2C-A1CE-25AB266E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093B-D933-4324-B41C-AB6D63B44E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9219-421F-48C6-8D5D-6CD5EABA3C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jbrookman.me.uk/graphics/index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One Point of Inters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046240" y="1600200"/>
            <a:ext cx="5100840" cy="4572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676520" y="63244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urce: 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www.jbrookman.me.uk/graphics/index.htm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One Line of Inters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905120" y="1600200"/>
            <a:ext cx="536580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Triangular Prism –</a:t>
            </a:r>
            <a:br>
              <a:rPr sz="4000"/>
            </a:b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No Inters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057400" y="1981080"/>
            <a:ext cx="466740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Two Parallel Planes –</a:t>
            </a:r>
            <a:br>
              <a:rPr sz="4000"/>
            </a:b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No Inters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828800" y="1752480"/>
            <a:ext cx="548496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Three Parallel Planes – </a:t>
            </a:r>
            <a:br>
              <a:rPr sz="4000"/>
            </a:b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No Inters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850104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20:48:09Z</dcterms:created>
  <dc:creator>D. Stead</dc:creator>
  <dc:description/>
  <dc:language>en-US</dc:language>
  <cp:lastModifiedBy>D. Stead</cp:lastModifiedBy>
  <dcterms:modified xsi:type="dcterms:W3CDTF">2007-07-05T20:56:04Z</dcterms:modified>
  <cp:revision>2</cp:revision>
  <dc:subject/>
  <dc:title>One Point of Interse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89913190</vt:r8>
  </property>
  <property fmtid="{D5CDD505-2E9C-101B-9397-08002B2CF9AE}" pid="3" name="_AuthorEmail">
    <vt:lpwstr>Anthony.Azzopardi@ontario.ca</vt:lpwstr>
  </property>
  <property fmtid="{D5CDD505-2E9C-101B-9397-08002B2CF9AE}" pid="4" name="_AuthorEmailDisplayName">
    <vt:lpwstr>Azzopardi, Anthony (EDU)</vt:lpwstr>
  </property>
  <property fmtid="{D5CDD505-2E9C-101B-9397-08002B2CF9AE}" pid="5" name="_EmailSubject">
    <vt:lpwstr>MCV4U Unit 6 Sample Lessons</vt:lpwstr>
  </property>
</Properties>
</file>