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B7F-3F74-453A-A741-736AF94C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1E1-9BDD-4E92-A539-65C86572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F40-0AD5-45C2-A495-A6090F59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49C-F25E-4B5F-A5A9-33130319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68F0-91F0-455D-9EF9-8D600293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8463-F180-407A-93BF-07A5E440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E17-067C-4446-B22A-DF4E000C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52F8-172E-4745-A36D-DD20ABF0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7E7F-7F40-479A-9487-7F13202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16B2-482E-4EA4-90CA-C65AE5BA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E301-B2C1-4505-80A1-FFE3EE4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765-B99B-4F27-8E4F-5C9AFD39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EA0D-B366-4075-9157-89A97EE9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5588-0D7A-406D-8A63-92EE7F6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D599-5CF5-4BAE-A6ED-2A94097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BA6C-4B8B-4670-9BAA-640A5961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D841-1BAA-4FDF-95AA-910EF8A5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12E-DEF0-46AE-9776-19B7EF82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6B6-A89A-4782-A69F-59D7C2CE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710-6DAA-4399-B318-AE546EAA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CDE-0ABB-49B1-8C2E-03E44EEC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6A8-45B6-40BF-A227-2D0DB3C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666-C7ED-46BA-B537-5802F85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385-404B-4B17-9A0B-F7F3AB99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07B2-E368-4F14-BA56-53AB69DBF2AA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F178-D8CE-419A-8A27-2F97D0729B49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826920" y="2324160"/>
            <a:ext cx="2602080" cy="1713960"/>
            <a:chOff x="826920" y="2324160"/>
            <a:chExt cx="2602080" cy="1713960"/>
          </a:xfrm>
        </p:grpSpPr>
        <p:sp>
          <p:nvSpPr>
            <p:cNvPr id="212" name=""/>
            <p:cNvSpPr/>
            <p:nvPr/>
          </p:nvSpPr>
          <p:spPr>
            <a:xfrm flipV="1">
              <a:off x="826920" y="2382480"/>
              <a:ext cx="2592720" cy="16556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37000" y="2324160"/>
              <a:ext cx="792000" cy="71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213000" y="2395440"/>
              <a:ext cx="21600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003640" y="3933720"/>
            <a:ext cx="792000" cy="2160720"/>
            <a:chOff x="5003640" y="3933720"/>
            <a:chExt cx="792000" cy="2160720"/>
          </a:xfrm>
        </p:grpSpPr>
        <p:sp>
          <p:nvSpPr>
            <p:cNvPr id="216" name=""/>
            <p:cNvSpPr/>
            <p:nvPr/>
          </p:nvSpPr>
          <p:spPr>
            <a:xfrm flipH="1" flipV="1">
              <a:off x="5148000" y="3933720"/>
              <a:ext cx="647640" cy="2160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03640" y="3933720"/>
              <a:ext cx="14472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48360" y="3933720"/>
              <a:ext cx="431640" cy="360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12000" y="2852640"/>
            <a:ext cx="2160360" cy="1295640"/>
            <a:chOff x="6012000" y="2852640"/>
            <a:chExt cx="2160360" cy="1295640"/>
          </a:xfrm>
        </p:grpSpPr>
        <p:sp>
          <p:nvSpPr>
            <p:cNvPr id="220" name=""/>
            <p:cNvSpPr/>
            <p:nvPr/>
          </p:nvSpPr>
          <p:spPr>
            <a:xfrm>
              <a:off x="6012000" y="2852640"/>
              <a:ext cx="2160360" cy="12956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51640" y="4076640"/>
              <a:ext cx="720720" cy="716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7956360" y="3645000"/>
              <a:ext cx="215640" cy="503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900000" y="1268280"/>
            <a:ext cx="3384720" cy="503280"/>
            <a:chOff x="900000" y="1268280"/>
            <a:chExt cx="3384720" cy="503280"/>
          </a:xfrm>
        </p:grpSpPr>
        <p:sp>
          <p:nvSpPr>
            <p:cNvPr id="224" name=""/>
            <p:cNvSpPr/>
            <p:nvPr/>
          </p:nvSpPr>
          <p:spPr>
            <a:xfrm>
              <a:off x="900000" y="1484280"/>
              <a:ext cx="3384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1080" y="1268280"/>
              <a:ext cx="576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762360" y="1484280"/>
              <a:ext cx="504720" cy="28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35640" y="1125000"/>
            <a:ext cx="3097080" cy="935640"/>
            <a:chOff x="5435640" y="1125000"/>
            <a:chExt cx="3097080" cy="935640"/>
          </a:xfrm>
        </p:grpSpPr>
        <p:sp>
          <p:nvSpPr>
            <p:cNvPr id="228" name=""/>
            <p:cNvSpPr/>
            <p:nvPr/>
          </p:nvSpPr>
          <p:spPr>
            <a:xfrm flipV="1">
              <a:off x="5435640" y="1125000"/>
              <a:ext cx="3097080" cy="8636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435640" y="1484280"/>
              <a:ext cx="431640" cy="503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35640" y="1989000"/>
              <a:ext cx="718920" cy="716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26920" y="5013360"/>
            <a:ext cx="3384720" cy="503280"/>
            <a:chOff x="826920" y="5013360"/>
            <a:chExt cx="3384720" cy="503280"/>
          </a:xfrm>
        </p:grpSpPr>
        <p:sp>
          <p:nvSpPr>
            <p:cNvPr id="232" name=""/>
            <p:cNvSpPr/>
            <p:nvPr/>
          </p:nvSpPr>
          <p:spPr>
            <a:xfrm>
              <a:off x="826920" y="5229360"/>
              <a:ext cx="33847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5280" y="5013360"/>
              <a:ext cx="576360" cy="216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706920" y="5229360"/>
              <a:ext cx="504720" cy="287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2865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Vectors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rections from the classroo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th your partner</a:t>
            </a:r>
            <a:r>
              <a:rPr b="0" lang="en-CA" sz="44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have been given a numbe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distance/displac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, together find t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swer to each of the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353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haring your understanding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227640" y="1989000"/>
            <a:ext cx="26654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ance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lacement from A to 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11280" y="1916280"/>
            <a:ext cx="5371920" cy="4298760"/>
            <a:chOff x="611280" y="1916280"/>
            <a:chExt cx="5371920" cy="4298760"/>
          </a:xfrm>
        </p:grpSpPr>
        <p:grpSp>
          <p:nvGrpSpPr>
            <p:cNvPr id="301" name=""/>
            <p:cNvGrpSpPr/>
            <p:nvPr/>
          </p:nvGrpSpPr>
          <p:grpSpPr>
            <a:xfrm>
              <a:off x="611280" y="1916280"/>
              <a:ext cx="5371920" cy="4298760"/>
              <a:chOff x="611280" y="1916280"/>
              <a:chExt cx="5371920" cy="4298760"/>
            </a:xfrm>
          </p:grpSpPr>
          <p:pic>
            <p:nvPicPr>
              <p:cNvPr id="302" name="TIIimagefile5251" descr="[image]"/>
              <p:cNvPicPr/>
              <p:nvPr/>
            </p:nvPicPr>
            <p:blipFill>
              <a:blip r:embed="rId1"/>
              <a:stretch/>
            </p:blipFill>
            <p:spPr>
              <a:xfrm>
                <a:off x="611280" y="1916280"/>
                <a:ext cx="5371920" cy="4298760"/>
              </a:xfrm>
              <a:prstGeom prst="rect">
                <a:avLst/>
              </a:prstGeom>
              <a:ln w="25560">
                <a:solidFill>
                  <a:srgbClr val="ff0000"/>
                </a:solidFill>
                <a:miter/>
              </a:ln>
            </p:spPr>
          </p:pic>
          <p:grpSp>
            <p:nvGrpSpPr>
              <p:cNvPr id="303" name=""/>
              <p:cNvGrpSpPr/>
              <p:nvPr/>
            </p:nvGrpSpPr>
            <p:grpSpPr>
              <a:xfrm>
                <a:off x="2439720" y="3745080"/>
                <a:ext cx="0" cy="1371600"/>
                <a:chOff x="2439720" y="3745080"/>
                <a:chExt cx="0" cy="1371600"/>
              </a:xfrm>
            </p:grpSpPr>
            <p:sp>
              <p:nvSpPr>
                <p:cNvPr id="304" name=""/>
                <p:cNvSpPr/>
                <p:nvPr/>
              </p:nvSpPr>
              <p:spPr>
                <a:xfrm flipV="1">
                  <a:off x="2439720" y="477396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439720" y="443088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439720" y="408780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39720" y="374508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154400" y="3745080"/>
                <a:ext cx="0" cy="1371600"/>
                <a:chOff x="4154400" y="3745080"/>
                <a:chExt cx="0" cy="13716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154400" y="374508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154400" y="408816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154400" y="443124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154400" y="477396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2439720" y="3745080"/>
                <a:ext cx="1714320" cy="0"/>
                <a:chOff x="2439720" y="3745080"/>
                <a:chExt cx="1714320" cy="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896920" y="3745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439720" y="3745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696840" y="3745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239640" y="3745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8" name=""/>
            <p:cNvSpPr txBox="1"/>
            <p:nvPr/>
          </p:nvSpPr>
          <p:spPr>
            <a:xfrm>
              <a:off x="2268360" y="51577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4075200" y="51577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haring your understanding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ance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lac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A to 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52280" y="1797120"/>
            <a:ext cx="5486400" cy="4298760"/>
            <a:chOff x="152280" y="1797120"/>
            <a:chExt cx="5486400" cy="4298760"/>
          </a:xfrm>
        </p:grpSpPr>
        <p:grpSp>
          <p:nvGrpSpPr>
            <p:cNvPr id="323" name=""/>
            <p:cNvGrpSpPr/>
            <p:nvPr/>
          </p:nvGrpSpPr>
          <p:grpSpPr>
            <a:xfrm>
              <a:off x="152280" y="1797120"/>
              <a:ext cx="5486400" cy="4298760"/>
              <a:chOff x="152280" y="1797120"/>
              <a:chExt cx="5486400" cy="4298760"/>
            </a:xfrm>
          </p:grpSpPr>
          <p:pic>
            <p:nvPicPr>
              <p:cNvPr id="324" name="TIIimagefile5251" descr="[image]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797120"/>
                <a:ext cx="5486400" cy="4298760"/>
              </a:xfrm>
              <a:prstGeom prst="rect">
                <a:avLst/>
              </a:prstGeom>
              <a:ln w="25560">
                <a:solidFill>
                  <a:srgbClr val="ff0000"/>
                </a:solidFill>
                <a:miter/>
              </a:ln>
            </p:spPr>
          </p:pic>
          <p:grpSp>
            <p:nvGrpSpPr>
              <p:cNvPr id="325" name=""/>
              <p:cNvGrpSpPr/>
              <p:nvPr/>
            </p:nvGrpSpPr>
            <p:grpSpPr>
              <a:xfrm>
                <a:off x="2895480" y="3994200"/>
                <a:ext cx="0" cy="1371600"/>
                <a:chOff x="2895480" y="3994200"/>
                <a:chExt cx="0" cy="1371600"/>
              </a:xfrm>
            </p:grpSpPr>
            <p:sp>
              <p:nvSpPr>
                <p:cNvPr id="326" name=""/>
                <p:cNvSpPr/>
                <p:nvPr/>
              </p:nvSpPr>
              <p:spPr>
                <a:xfrm flipV="1">
                  <a:off x="2895480" y="502308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2895480" y="468000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2895480" y="433692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2895480" y="399420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3809880" y="3994200"/>
                <a:ext cx="0" cy="1371600"/>
                <a:chOff x="3809880" y="3994200"/>
                <a:chExt cx="0" cy="13716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809880" y="399420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809880" y="433728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09880" y="468036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809880" y="502308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981080" y="5365800"/>
                <a:ext cx="914400" cy="0"/>
                <a:chOff x="1981080" y="5365800"/>
                <a:chExt cx="914400" cy="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438280" y="536580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981080" y="536580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895480" y="3994200"/>
                <a:ext cx="914400" cy="0"/>
                <a:chOff x="2895480" y="3994200"/>
                <a:chExt cx="914400" cy="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352680" y="399420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895480" y="399420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 txBox="1"/>
              <p:nvPr/>
            </p:nvSpPr>
            <p:spPr>
              <a:xfrm>
                <a:off x="1736640" y="5397480"/>
                <a:ext cx="35244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42" name=""/>
            <p:cNvSpPr txBox="1"/>
            <p:nvPr/>
          </p:nvSpPr>
          <p:spPr>
            <a:xfrm>
              <a:off x="3752640" y="53974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haring your understanding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ance f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o 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lac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A to B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24000" y="1989000"/>
            <a:ext cx="5486400" cy="4299120"/>
            <a:chOff x="324000" y="1989000"/>
            <a:chExt cx="5486400" cy="4299120"/>
          </a:xfrm>
        </p:grpSpPr>
        <p:pic>
          <p:nvPicPr>
            <p:cNvPr id="346" name="TIIimagefile5251" descr="[image]"/>
            <p:cNvPicPr/>
            <p:nvPr/>
          </p:nvPicPr>
          <p:blipFill>
            <a:blip r:embed="rId1"/>
            <a:stretch/>
          </p:blipFill>
          <p:spPr>
            <a:xfrm>
              <a:off x="324000" y="1989000"/>
              <a:ext cx="5486400" cy="429912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grpSp>
          <p:nvGrpSpPr>
            <p:cNvPr id="347" name=""/>
            <p:cNvGrpSpPr/>
            <p:nvPr/>
          </p:nvGrpSpPr>
          <p:grpSpPr>
            <a:xfrm>
              <a:off x="2152800" y="3474720"/>
              <a:ext cx="914400" cy="1028520"/>
              <a:chOff x="2152800" y="3474720"/>
              <a:chExt cx="914400" cy="10285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3067200" y="3474720"/>
                <a:ext cx="0" cy="1002240"/>
                <a:chOff x="3067200" y="3474720"/>
                <a:chExt cx="0" cy="100224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3067200" y="3816720"/>
                  <a:ext cx="0" cy="660240"/>
                  <a:chOff x="3067200" y="3816720"/>
                  <a:chExt cx="0" cy="6602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067200" y="3816720"/>
                    <a:ext cx="0" cy="3430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067200" y="4134240"/>
                    <a:ext cx="0" cy="3427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>
                  <a:off x="3067200" y="347472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152800" y="3474720"/>
                <a:ext cx="914400" cy="0"/>
                <a:chOff x="2152800" y="3474720"/>
                <a:chExt cx="914400" cy="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610000" y="347472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152800" y="347472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152800" y="4503240"/>
                <a:ext cx="914400" cy="0"/>
                <a:chOff x="2152800" y="4503240"/>
                <a:chExt cx="914400" cy="0"/>
              </a:xfrm>
            </p:grpSpPr>
            <p:sp>
              <p:nvSpPr>
                <p:cNvPr id="357" name=""/>
                <p:cNvSpPr/>
                <p:nvPr/>
              </p:nvSpPr>
              <p:spPr>
                <a:xfrm flipH="1">
                  <a:off x="2152800" y="450324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2610000" y="450324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"/>
          <p:cNvSpPr txBox="1"/>
          <p:nvPr/>
        </p:nvSpPr>
        <p:spPr>
          <a:xfrm>
            <a:off x="1763640" y="3141720"/>
            <a:ext cx="352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908000" y="4005360"/>
            <a:ext cx="352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haring your understanding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214776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ce fr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to B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A to B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79280" y="1916280"/>
            <a:ext cx="5486400" cy="4298760"/>
            <a:chOff x="179280" y="1916280"/>
            <a:chExt cx="5486400" cy="4298760"/>
          </a:xfrm>
        </p:grpSpPr>
        <p:grpSp>
          <p:nvGrpSpPr>
            <p:cNvPr id="364" name=""/>
            <p:cNvGrpSpPr/>
            <p:nvPr/>
          </p:nvGrpSpPr>
          <p:grpSpPr>
            <a:xfrm>
              <a:off x="179280" y="1916280"/>
              <a:ext cx="5486400" cy="4298760"/>
              <a:chOff x="179280" y="1916280"/>
              <a:chExt cx="5486400" cy="4298760"/>
            </a:xfrm>
          </p:grpSpPr>
          <p:pic>
            <p:nvPicPr>
              <p:cNvPr id="365" name="TIIimagefile5251" descr="[image]"/>
              <p:cNvPicPr/>
              <p:nvPr/>
            </p:nvPicPr>
            <p:blipFill>
              <a:blip r:embed="rId1"/>
              <a:stretch/>
            </p:blipFill>
            <p:spPr>
              <a:xfrm>
                <a:off x="179280" y="1916280"/>
                <a:ext cx="5486400" cy="4298760"/>
              </a:xfrm>
              <a:prstGeom prst="rect">
                <a:avLst/>
              </a:prstGeom>
              <a:ln w="25560">
                <a:solidFill>
                  <a:srgbClr val="ff0000"/>
                </a:solidFill>
                <a:miter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2922480" y="4430520"/>
                <a:ext cx="4572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749880" y="3401640"/>
                <a:ext cx="2629440" cy="2057040"/>
                <a:chOff x="749880" y="3401640"/>
                <a:chExt cx="2629440" cy="20570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464920" y="374436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64920" y="408744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64920" y="340164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64920" y="4430160"/>
                  <a:ext cx="457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3379320" y="4430160"/>
                  <a:ext cx="0" cy="1002240"/>
                  <a:chOff x="3379320" y="4430160"/>
                  <a:chExt cx="0" cy="1002240"/>
                </a:xfrm>
              </p:grpSpPr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3379320" y="4772880"/>
                    <a:ext cx="0" cy="659520"/>
                    <a:chOff x="3379320" y="4772880"/>
                    <a:chExt cx="0" cy="6595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3379320" y="4772880"/>
                      <a:ext cx="0" cy="34272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3379320" y="5089680"/>
                      <a:ext cx="0" cy="34272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6" name=""/>
                  <p:cNvSpPr/>
                  <p:nvPr/>
                </p:nvSpPr>
                <p:spPr>
                  <a:xfrm>
                    <a:off x="3379320" y="4430160"/>
                    <a:ext cx="0" cy="34272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2007000" y="5458680"/>
                  <a:ext cx="1371960" cy="0"/>
                  <a:chOff x="2007000" y="5458680"/>
                  <a:chExt cx="1371960" cy="0"/>
                </a:xfrm>
              </p:grpSpPr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2464560" y="5458680"/>
                    <a:ext cx="914400" cy="0"/>
                    <a:chOff x="2464560" y="5458680"/>
                    <a:chExt cx="914400" cy="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flipH="1">
                      <a:off x="2464560" y="5458680"/>
                      <a:ext cx="4572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H="1">
                      <a:off x="2921760" y="5458680"/>
                      <a:ext cx="4572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flipH="1">
                    <a:off x="2007000" y="5458680"/>
                    <a:ext cx="4572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 flipV="1">
                  <a:off x="750600" y="374436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50600" y="340164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50600" y="408744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750600" y="477288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50600" y="443016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750600" y="5115600"/>
                  <a:ext cx="0" cy="342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749880" y="5458680"/>
                  <a:ext cx="1371960" cy="0"/>
                  <a:chOff x="749880" y="5458680"/>
                  <a:chExt cx="1371960" cy="0"/>
                </a:xfrm>
              </p:grpSpPr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1207440" y="5458680"/>
                    <a:ext cx="914400" cy="0"/>
                    <a:chOff x="1207440" y="5458680"/>
                    <a:chExt cx="914400" cy="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>
                      <a:off x="1207440" y="5458680"/>
                      <a:ext cx="4572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>
                      <a:off x="1664640" y="5458680"/>
                      <a:ext cx="4572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2" name=""/>
                  <p:cNvSpPr/>
                  <p:nvPr/>
                </p:nvSpPr>
                <p:spPr>
                  <a:xfrm flipH="1">
                    <a:off x="749880" y="5458680"/>
                    <a:ext cx="4572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93" name=""/>
            <p:cNvSpPr txBox="1"/>
            <p:nvPr/>
          </p:nvSpPr>
          <p:spPr>
            <a:xfrm>
              <a:off x="2340000" y="27082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84360" y="27082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tance versus Displa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427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rry boat captain and a truck driver are asked how far it is from Vectorville to Component Cov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332000" y="2781360"/>
            <a:ext cx="6172200" cy="3657600"/>
            <a:chOff x="1332000" y="2781360"/>
            <a:chExt cx="6172200" cy="3657600"/>
          </a:xfrm>
        </p:grpSpPr>
        <p:grpSp>
          <p:nvGrpSpPr>
            <p:cNvPr id="239" name=""/>
            <p:cNvGrpSpPr/>
            <p:nvPr/>
          </p:nvGrpSpPr>
          <p:grpSpPr>
            <a:xfrm>
              <a:off x="1332000" y="2781360"/>
              <a:ext cx="6172200" cy="3657600"/>
              <a:chOff x="1332000" y="2781360"/>
              <a:chExt cx="6172200" cy="365760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1332000" y="2781360"/>
                <a:ext cx="6172200" cy="3657600"/>
                <a:chOff x="1332000" y="2781360"/>
                <a:chExt cx="6172200" cy="3657600"/>
              </a:xfrm>
            </p:grpSpPr>
            <p:pic>
              <p:nvPicPr>
                <p:cNvPr id="24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32000" y="2781360"/>
                  <a:ext cx="6172200" cy="365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2" name=""/>
                <p:cNvSpPr/>
                <p:nvPr/>
              </p:nvSpPr>
              <p:spPr>
                <a:xfrm>
                  <a:off x="3960720" y="3124080"/>
                  <a:ext cx="342720" cy="22824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646880" y="4838760"/>
                  <a:ext cx="342720" cy="22824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 txBox="1"/>
              <p:nvPr/>
            </p:nvSpPr>
            <p:spPr>
              <a:xfrm>
                <a:off x="2556000" y="3068640"/>
                <a:ext cx="1325520" cy="420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Vectorville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45" name=""/>
            <p:cNvSpPr txBox="1"/>
            <p:nvPr/>
          </p:nvSpPr>
          <p:spPr>
            <a:xfrm>
              <a:off x="5076720" y="4797360"/>
              <a:ext cx="1325520" cy="42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omponent Cov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truck driver's respons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80 km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2016000" cy="183204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476360" y="2997360"/>
            <a:ext cx="6172200" cy="3657600"/>
            <a:chOff x="1476360" y="2997360"/>
            <a:chExt cx="6172200" cy="3657600"/>
          </a:xfrm>
        </p:grpSpPr>
        <p:grpSp>
          <p:nvGrpSpPr>
            <p:cNvPr id="250" name=""/>
            <p:cNvGrpSpPr/>
            <p:nvPr/>
          </p:nvGrpSpPr>
          <p:grpSpPr>
            <a:xfrm>
              <a:off x="1476360" y="2997360"/>
              <a:ext cx="6172200" cy="3657600"/>
              <a:chOff x="1476360" y="2997360"/>
              <a:chExt cx="6172200" cy="365760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476360" y="2997360"/>
                <a:ext cx="6172200" cy="3657600"/>
                <a:chOff x="1476360" y="2997360"/>
                <a:chExt cx="6172200" cy="365760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1476360" y="2997360"/>
                  <a:ext cx="6172200" cy="3657600"/>
                  <a:chOff x="1476360" y="2997360"/>
                  <a:chExt cx="6172200" cy="365760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1476360" y="2997360"/>
                    <a:ext cx="6172200" cy="3657600"/>
                    <a:chOff x="1476360" y="2997360"/>
                    <a:chExt cx="6172200" cy="3657600"/>
                  </a:xfrm>
                </p:grpSpPr>
                <p:grpSp>
                  <p:nvGrpSpPr>
                    <p:cNvPr id="254" name=""/>
                    <p:cNvGrpSpPr/>
                    <p:nvPr/>
                  </p:nvGrpSpPr>
                  <p:grpSpPr>
                    <a:xfrm>
                      <a:off x="1476360" y="2997360"/>
                      <a:ext cx="6172200" cy="3657600"/>
                      <a:chOff x="1476360" y="2997360"/>
                      <a:chExt cx="6172200" cy="3657600"/>
                    </a:xfrm>
                  </p:grpSpPr>
                  <p:grpSp>
                    <p:nvGrpSpPr>
                      <p:cNvPr id="255" name=""/>
                      <p:cNvGrpSpPr/>
                      <p:nvPr/>
                    </p:nvGrpSpPr>
                    <p:grpSpPr>
                      <a:xfrm>
                        <a:off x="1476360" y="2997360"/>
                        <a:ext cx="6172200" cy="3657600"/>
                        <a:chOff x="1476360" y="2997360"/>
                        <a:chExt cx="6172200" cy="3657600"/>
                      </a:xfrm>
                    </p:grpSpPr>
                    <p:grpSp>
                      <p:nvGrpSpPr>
                        <p:cNvPr id="256" name=""/>
                        <p:cNvGrpSpPr/>
                        <p:nvPr/>
                      </p:nvGrpSpPr>
                      <p:grpSpPr>
                        <a:xfrm>
                          <a:off x="1476360" y="2997360"/>
                          <a:ext cx="6172200" cy="3657600"/>
                          <a:chOff x="1476360" y="2997360"/>
                          <a:chExt cx="6172200" cy="3657600"/>
                        </a:xfrm>
                      </p:grpSpPr>
                      <p:grpSp>
                        <p:nvGrpSpPr>
                          <p:cNvPr id="257" name=""/>
                          <p:cNvGrpSpPr/>
                          <p:nvPr/>
                        </p:nvGrpSpPr>
                        <p:grpSpPr>
                          <a:xfrm>
                            <a:off x="1476360" y="2997360"/>
                            <a:ext cx="6172200" cy="3657600"/>
                            <a:chOff x="1476360" y="2997360"/>
                            <a:chExt cx="6172200" cy="3657600"/>
                          </a:xfrm>
                        </p:grpSpPr>
                        <p:pic>
                          <p:nvPicPr>
                            <p:cNvPr id="258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476360" y="2997360"/>
                              <a:ext cx="6172200" cy="36576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259" name=""/>
                            <p:cNvSpPr/>
                            <p:nvPr/>
                          </p:nvSpPr>
                          <p:spPr>
                            <a:xfrm>
                              <a:off x="4105080" y="3340080"/>
                              <a:ext cx="342720" cy="228240"/>
                            </a:xfrm>
                            <a:prstGeom prst="star5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>
                              <a:off x="4791240" y="5054760"/>
                              <a:ext cx="342720" cy="228240"/>
                            </a:xfrm>
                            <a:prstGeom prst="star5">
                              <a:avLst/>
                            </a:prstGeom>
                            <a:solidFill>
                              <a:srgbClr val="ffffff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cxnSp>
                        <p:nvCxnSpPr>
                          <p:cNvPr id="261" name=""/>
                          <p:cNvCxnSpPr/>
                          <p:nvPr/>
                        </p:nvCxnSpPr>
                        <p:spPr>
                          <a:xfrm flipV="1">
                            <a:off x="3190320" y="3568320"/>
                            <a:ext cx="1028880" cy="343440"/>
                          </a:xfrm>
                          <a:prstGeom prst="curvedConnector5">
                            <a:avLst>
                              <a:gd name="adj1" fmla="val 49982"/>
                              <a:gd name="adj2" fmla="val 49947"/>
                              <a:gd name="adj3" fmla="val 49982"/>
                            </a:avLst>
                          </a:prstGeom>
                          <a:ln w="63360">
                            <a:solidFill>
                              <a:srgbClr val="ff0000"/>
                            </a:solidFill>
                            <a:miter/>
                          </a:ln>
                        </p:spPr>
                      </p:cxnSp>
                    </p:grpSp>
                    <p:cxnSp>
                      <p:nvCxnSpPr>
                        <p:cNvPr id="262" name=""/>
                        <p:cNvCxnSpPr/>
                        <p:nvPr/>
                      </p:nvCxnSpPr>
                      <p:spPr>
                        <a:xfrm flipV="1" rot="16200000">
                          <a:off x="1532880" y="4882680"/>
                          <a:ext cx="915120" cy="343440"/>
                        </a:xfrm>
                        <a:prstGeom prst="curvedConnector5">
                          <a:avLst>
                            <a:gd name="adj1" fmla="val 49980"/>
                            <a:gd name="adj2" fmla="val 49947"/>
                            <a:gd name="adj3" fmla="val 49980"/>
                          </a:avLst>
                        </a:prstGeom>
                        <a:ln w="63360">
                          <a:solidFill>
                            <a:srgbClr val="ff0000"/>
                          </a:solidFill>
                          <a:miter/>
                        </a:ln>
                      </p:spPr>
                    </p:cxnSp>
                  </p:grpSp>
                  <p:cxnSp>
                    <p:nvCxnSpPr>
                      <p:cNvPr id="263" name=""/>
                      <p:cNvCxnSpPr/>
                      <p:nvPr/>
                    </p:nvCxnSpPr>
                    <p:spPr>
                      <a:xfrm flipV="1">
                        <a:off x="2264760" y="3911040"/>
                        <a:ext cx="915120" cy="229320"/>
                      </a:xfrm>
                      <a:prstGeom prst="curvedConnector5">
                        <a:avLst>
                          <a:gd name="adj1" fmla="val 49980"/>
                          <a:gd name="adj2" fmla="val 50000"/>
                          <a:gd name="adj3" fmla="val 49980"/>
                        </a:avLst>
                      </a:prstGeom>
                      <a:ln w="63360">
                        <a:solidFill>
                          <a:srgbClr val="ff0000"/>
                        </a:solidFill>
                        <a:miter/>
                      </a:ln>
                    </p:spPr>
                  </p:cxnSp>
                </p:grpSp>
                <p:cxnSp>
                  <p:nvCxnSpPr>
                    <p:cNvPr id="264" name=""/>
                    <p:cNvCxnSpPr/>
                    <p:nvPr/>
                  </p:nvCxnSpPr>
                  <p:spPr>
                    <a:xfrm flipH="1" flipV="1" rot="5400000">
                      <a:off x="1807200" y="4140000"/>
                      <a:ext cx="457920" cy="457920"/>
                    </a:xfrm>
                    <a:prstGeom prst="curvedConnector5">
                      <a:avLst>
                        <a:gd name="adj1" fmla="val 49960"/>
                        <a:gd name="adj2" fmla="val 49960"/>
                        <a:gd name="adj3" fmla="val 49960"/>
                      </a:avLst>
                    </a:prstGeom>
                    <a:ln w="63360">
                      <a:solidFill>
                        <a:srgbClr val="ff0000"/>
                      </a:solidFill>
                      <a:miter/>
                    </a:ln>
                  </p:spPr>
                </p:cxnSp>
              </p:grpSp>
              <p:cxnSp>
                <p:nvCxnSpPr>
                  <p:cNvPr id="265" name=""/>
                  <p:cNvCxnSpPr/>
                  <p:nvPr/>
                </p:nvCxnSpPr>
                <p:spPr>
                  <a:xfrm>
                    <a:off x="2150640" y="5511960"/>
                    <a:ext cx="686160" cy="228960"/>
                  </a:xfrm>
                  <a:prstGeom prst="straightConnector1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</p:cxnSp>
            </p:grpSp>
            <p:cxnSp>
              <p:nvCxnSpPr>
                <p:cNvPr id="266" name=""/>
                <p:cNvCxnSpPr/>
                <p:nvPr/>
              </p:nvCxnSpPr>
              <p:spPr>
                <a:xfrm flipV="1">
                  <a:off x="2836440" y="5511600"/>
                  <a:ext cx="1257840" cy="228960"/>
                </a:xfrm>
                <a:prstGeom prst="straightConnector1">
                  <a:avLst/>
                </a:prstGeom>
                <a:ln w="63360">
                  <a:solidFill>
                    <a:srgbClr val="ff0000"/>
                  </a:solidFill>
                  <a:miter/>
                </a:ln>
              </p:spPr>
            </p:cxnSp>
          </p:grpSp>
          <p:cxnSp>
            <p:nvCxnSpPr>
              <p:cNvPr id="267" name=""/>
              <p:cNvCxnSpPr/>
              <p:nvPr/>
            </p:nvCxnSpPr>
            <p:spPr>
              <a:xfrm flipV="1">
                <a:off x="4093560" y="5282640"/>
                <a:ext cx="800640" cy="229320"/>
              </a:xfrm>
              <a:prstGeom prst="straightConnector1">
                <a:avLst/>
              </a:prstGeom>
              <a:ln w="6336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268" name=""/>
            <p:cNvSpPr txBox="1"/>
            <p:nvPr/>
          </p:nvSpPr>
          <p:spPr>
            <a:xfrm>
              <a:off x="2571840" y="3213000"/>
              <a:ext cx="142380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Vectorvill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5148360" y="5084640"/>
              <a:ext cx="142380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omponent Cov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ferry boat captain's response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50 km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520720" cy="302436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2771640" y="2924280"/>
            <a:ext cx="6172200" cy="3657600"/>
            <a:chOff x="2771640" y="2924280"/>
            <a:chExt cx="6172200" cy="3657600"/>
          </a:xfrm>
        </p:grpSpPr>
        <p:grpSp>
          <p:nvGrpSpPr>
            <p:cNvPr id="274" name=""/>
            <p:cNvGrpSpPr/>
            <p:nvPr/>
          </p:nvGrpSpPr>
          <p:grpSpPr>
            <a:xfrm>
              <a:off x="2771640" y="2924280"/>
              <a:ext cx="6172200" cy="3657600"/>
              <a:chOff x="2771640" y="2924280"/>
              <a:chExt cx="6172200" cy="3657600"/>
            </a:xfrm>
          </p:grpSpPr>
          <p:pic>
            <p:nvPicPr>
              <p:cNvPr id="2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71640" y="2924280"/>
                <a:ext cx="6172200" cy="365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5400360" y="3267000"/>
                <a:ext cx="342720" cy="22824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86520" y="4981680"/>
                <a:ext cx="342720" cy="22824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278" name=""/>
              <p:cNvCxnSpPr/>
              <p:nvPr/>
            </p:nvCxnSpPr>
            <p:spPr>
              <a:xfrm>
                <a:off x="5514480" y="3495240"/>
                <a:ext cx="572040" cy="1600920"/>
              </a:xfrm>
              <a:prstGeom prst="straightConnector1">
                <a:avLst/>
              </a:prstGeom>
              <a:ln w="6336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279" name=""/>
            <p:cNvSpPr txBox="1"/>
            <p:nvPr/>
          </p:nvSpPr>
          <p:spPr>
            <a:xfrm>
              <a:off x="3851280" y="3284640"/>
              <a:ext cx="1424160" cy="28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Vectorvill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6659640" y="4941720"/>
              <a:ext cx="1423800" cy="28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omponent Cov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o's righ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screpancy in the accuracy of how far it is from Vectorville to Component C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erry captain actually has the correct answer.  When deciding how far it is from one place to the next, we need to measure directly from point A to point 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tance versus Displa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distance between two points is the total "ground" that is covered.  This would be how far the truck driver travel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placement is how far it is from point A to point B.  This would be how far the ferry boat travel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alar Quant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calar quantity has magnitu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ance is a scalar quant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ector Quant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ector quantity has magnitud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placement is a vector quant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rts of a ve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1197000"/>
            <a:ext cx="7416720" cy="3887640"/>
          </a:xfrm>
          <a:prstGeom prst="rightArrow">
            <a:avLst>
              <a:gd name="adj1" fmla="val 50000"/>
              <a:gd name="adj2" fmla="val 476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il                              H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450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ember that a vector has magn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5:08:48Z</dcterms:created>
  <dc:creator>Peel District School Board</dc:creator>
  <dc:description/>
  <dc:language>en-US</dc:language>
  <cp:lastModifiedBy>s.yearley</cp:lastModifiedBy>
  <dcterms:modified xsi:type="dcterms:W3CDTF">2007-09-11T18:18:07Z</dcterms:modified>
  <cp:revision>15</cp:revision>
  <dc:subject/>
  <dc:title>Slide 1</dc:title>
</cp:coreProperties>
</file>