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D0D-5E92-4EFE-A8CE-3518839B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650-DB77-4422-A32F-250A6E2D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D15-AC55-42D2-B5C7-9117EC96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A76-E40E-40C1-8473-9315B4A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D1C3-D404-488A-8813-14F9BAD8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C9C-E816-4CBC-8CC1-182B1884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F7B-D5D4-4C7A-A801-CFB698D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4011-5926-46C1-AF81-C6551D5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B6F0-EE7C-4568-B215-13422CB8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4CC-6EC5-4331-89A2-45A1A2E8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BFB1-3952-49AC-9B22-901134D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11A-B1AE-430C-A097-A824AB35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A858-A161-4C97-B7C7-FE83F69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8579-8FCD-4863-8D77-BF8DD60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9FCE-CE72-4A1B-8183-DA2FC4CD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D954-8EA9-471D-A02E-3D26A78C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8BF3-7A9A-4391-AD00-2484FDCF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249-DD18-49FC-B79F-461F047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245-BE62-46B0-9672-510EDBE3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AB9-73E6-4263-A329-32F158E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787-BC2D-47F2-A537-CF4EBF6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EF2-6EAB-48F1-9ABB-1AEED35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ED6-01AA-4C1E-BF17-CE291DE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1D7-175B-4140-A08D-14AFC8A2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6F4C-12B2-4F8C-A4A5-F9788A27FA9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AE6-F3F2-4BE5-9EE3-CB23D5F94AC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Vectors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3" descr="examples of resultant vectors"/>
          <p:cNvPicPr/>
          <p:nvPr/>
        </p:nvPicPr>
        <p:blipFill>
          <a:blip r:embed="rId1"/>
          <a:stretch/>
        </p:blipFill>
        <p:spPr>
          <a:xfrm>
            <a:off x="936720" y="3284640"/>
            <a:ext cx="6875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If we can think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of vectors a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displacement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700360" y="476280"/>
            <a:ext cx="4176720" cy="3181320"/>
            <a:chOff x="2700360" y="476280"/>
            <a:chExt cx="4176720" cy="3181320"/>
          </a:xfrm>
        </p:grpSpPr>
        <p:grpSp>
          <p:nvGrpSpPr>
            <p:cNvPr id="215" name=""/>
            <p:cNvGrpSpPr/>
            <p:nvPr/>
          </p:nvGrpSpPr>
          <p:grpSpPr>
            <a:xfrm>
              <a:off x="2700360" y="476280"/>
              <a:ext cx="4176720" cy="3181320"/>
              <a:chOff x="2700360" y="476280"/>
              <a:chExt cx="4176720" cy="318132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0360" y="476280"/>
                <a:ext cx="4176720" cy="31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>
                <a:off x="4479120" y="774360"/>
                <a:ext cx="231840" cy="19872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43520" y="2265840"/>
                <a:ext cx="231840" cy="19872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19" name=""/>
              <p:cNvCxnSpPr/>
              <p:nvPr/>
            </p:nvCxnSpPr>
            <p:spPr>
              <a:xfrm>
                <a:off x="4556520" y="973080"/>
                <a:ext cx="387360" cy="1392480"/>
              </a:xfrm>
              <a:prstGeom prst="straightConnector1">
                <a:avLst/>
              </a:prstGeom>
              <a:ln w="633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20" name=""/>
            <p:cNvSpPr txBox="1"/>
            <p:nvPr/>
          </p:nvSpPr>
          <p:spPr>
            <a:xfrm>
              <a:off x="3430800" y="789480"/>
              <a:ext cx="963720" cy="24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ectorvil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331240" y="2230920"/>
              <a:ext cx="963360" cy="24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onent Cov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22" name="Picture 2" descr="Airspeed and windspeed combine in groundspeed"/>
          <p:cNvPicPr/>
          <p:nvPr/>
        </p:nvPicPr>
        <p:blipFill>
          <a:blip r:embed="rId2"/>
          <a:srcRect l="0" t="67769" r="0" b="0"/>
          <a:stretch/>
        </p:blipFill>
        <p:spPr>
          <a:xfrm>
            <a:off x="324000" y="3716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94920" y="-360"/>
            <a:ext cx="9001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s acting on a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34" descr="http://www.glenbrook.k12.il.us/gbssci/phys/Class/vectors/u3l1d5.gif"/>
          <p:cNvPicPr/>
          <p:nvPr/>
        </p:nvPicPr>
        <p:blipFill>
          <a:blip r:embed="rId3"/>
          <a:srcRect l="53265" t="0" r="1909" b="44457"/>
          <a:stretch/>
        </p:blipFill>
        <p:spPr>
          <a:xfrm>
            <a:off x="4427640" y="4149720"/>
            <a:ext cx="4537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n think of adding two vecto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gether as finding a sing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placement.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How will we fi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e resultant vector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55640" y="0"/>
            <a:ext cx="7920000" cy="6597360"/>
            <a:chOff x="755640" y="0"/>
            <a:chExt cx="7920000" cy="6597360"/>
          </a:xfrm>
        </p:grpSpPr>
        <p:pic>
          <p:nvPicPr>
            <p:cNvPr id="227" name="TIIimagefile24624" descr="[image]"/>
            <p:cNvPicPr/>
            <p:nvPr/>
          </p:nvPicPr>
          <p:blipFill>
            <a:blip r:embed="rId1"/>
            <a:stretch/>
          </p:blipFill>
          <p:spPr>
            <a:xfrm>
              <a:off x="755640" y="204840"/>
              <a:ext cx="7920000" cy="639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1588680" y="0"/>
              <a:ext cx="5913720" cy="6206040"/>
              <a:chOff x="1588680" y="0"/>
              <a:chExt cx="5913720" cy="62060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1588680" y="1004040"/>
                <a:ext cx="5447880" cy="5202000"/>
                <a:chOff x="1588680" y="1004040"/>
                <a:chExt cx="5447880" cy="52020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1601280" y="1004040"/>
                  <a:ext cx="5435280" cy="4456080"/>
                  <a:chOff x="1601280" y="1004040"/>
                  <a:chExt cx="5435280" cy="445608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911960" y="1640160"/>
                    <a:ext cx="4658400" cy="3819960"/>
                    <a:chOff x="1911960" y="1640160"/>
                    <a:chExt cx="4658400" cy="38199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V="1">
                      <a:off x="1911960" y="1640160"/>
                      <a:ext cx="3105720" cy="2228040"/>
                    </a:xfrm>
                    <a:prstGeom prst="line">
                      <a:avLst/>
                    </a:prstGeom>
                    <a:ln w="63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1911960" y="3868560"/>
                      <a:ext cx="4658400" cy="1591200"/>
                    </a:xfrm>
                    <a:prstGeom prst="line">
                      <a:avLst/>
                    </a:prstGeom>
                    <a:ln w="63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017680" y="1640520"/>
                      <a:ext cx="1552680" cy="3819600"/>
                    </a:xfrm>
                    <a:prstGeom prst="line">
                      <a:avLst/>
                    </a:prstGeom>
                    <a:ln w="63360">
                      <a:solidFill>
                        <a:srgbClr val="99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3153960" y="2436120"/>
                      <a:ext cx="621000" cy="159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>
                      <a:off x="3464640" y="2595240"/>
                      <a:ext cx="310320" cy="477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3775320" y="4505400"/>
                      <a:ext cx="310320" cy="477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V="1">
                      <a:off x="3775320" y="4345920"/>
                      <a:ext cx="621000" cy="159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flipV="1">
                      <a:off x="5327640" y="3709440"/>
                      <a:ext cx="621000" cy="1591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flipV="1">
                      <a:off x="5949360" y="3391200"/>
                      <a:ext cx="0" cy="47736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"/>
                  <p:cNvSpPr txBox="1"/>
                  <p:nvPr/>
                </p:nvSpPr>
                <p:spPr>
                  <a:xfrm>
                    <a:off x="5017680" y="1004040"/>
                    <a:ext cx="310320" cy="583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A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6725880" y="4823640"/>
                    <a:ext cx="310680" cy="583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B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3" name=""/>
                  <p:cNvSpPr txBox="1"/>
                  <p:nvPr/>
                </p:nvSpPr>
                <p:spPr>
                  <a:xfrm>
                    <a:off x="1601280" y="3868560"/>
                    <a:ext cx="310680" cy="583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44" name=""/>
                    <p:cNvSpPr txBox="1"/>
                    <p:nvPr/>
                  </p:nvSpPr>
                  <p:spPr>
                    <a:xfrm>
                      <a:off x="1588680" y="5410440"/>
                      <a:ext cx="3416400" cy="795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lim>
                              <m:r>
                                <m:rPr>
                                  <m:lit/>
                                  <m:nor/>
                                </m:rPr>
                                <m:t xml:space="preserve">____</m:t>
                              </m:r>
                            </m:lim>
                          </m:limUpp>
                          <m:r>
                            <m:t xml:space="preserve">+</m:t>
                          </m:r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e>
                            <m:lim>
                              <m:r>
                                <m:rPr>
                                  <m:lit/>
                                  <m:nor/>
                                </m:rPr>
                                <m:t xml:space="preserve">____</m:t>
                              </m:r>
                            </m:lim>
                          </m:limUpp>
                          <m:r>
                            <m:t xml:space="preserve">=</m:t>
                          </m:r>
                          <m:limUp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e>
                            <m:lim>
                              <m:r>
                                <m:rPr>
                                  <m:lit/>
                                  <m:nor/>
                                </m:rPr>
                                <m:t xml:space="preserve">____</m:t>
                              </m:r>
                            </m:lim>
                          </m:limUp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5" name=""/>
              <p:cNvSpPr txBox="1"/>
              <p:nvPr/>
            </p:nvSpPr>
            <p:spPr>
              <a:xfrm>
                <a:off x="2209680" y="0"/>
                <a:ext cx="5292720" cy="90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ff00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 Black"/>
                  </a:rPr>
                  <a:t>Vector Addition</a:t>
                </a:r>
                <a:endParaRPr b="0" lang="en-US" sz="1800" spc="1" strike="noStrike">
                  <a:ln w="12600">
                    <a:solidFill>
                      <a:srgbClr val="ffff00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other way to find the resultant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24000" y="1413000"/>
            <a:ext cx="8280000" cy="5111280"/>
            <a:chOff x="324000" y="1413000"/>
            <a:chExt cx="8280000" cy="5111280"/>
          </a:xfrm>
        </p:grpSpPr>
        <p:pic>
          <p:nvPicPr>
            <p:cNvPr id="248" name="TIIimagefile11151" descr="[image]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8280000" cy="51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2471040" y="2738880"/>
              <a:ext cx="4292280" cy="2270880"/>
              <a:chOff x="2471040" y="2738880"/>
              <a:chExt cx="4292280" cy="2270880"/>
            </a:xfrm>
          </p:grpSpPr>
          <p:sp>
            <p:nvSpPr>
              <p:cNvPr id="250" name=""/>
              <p:cNvSpPr/>
              <p:nvPr/>
            </p:nvSpPr>
            <p:spPr>
              <a:xfrm>
                <a:off x="2471040" y="5009760"/>
                <a:ext cx="4292280" cy="0"/>
              </a:xfrm>
              <a:prstGeom prst="line">
                <a:avLst/>
              </a:prstGeom>
              <a:ln w="3492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471040" y="2738880"/>
                <a:ext cx="0" cy="2270880"/>
              </a:xfrm>
              <a:prstGeom prst="line">
                <a:avLst/>
              </a:prstGeom>
              <a:ln w="34920">
                <a:solidFill>
                  <a:srgbClr val="99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71040" y="2738880"/>
                <a:ext cx="4292280" cy="0"/>
              </a:xfrm>
              <a:prstGeom prst="line">
                <a:avLst/>
              </a:prstGeom>
              <a:ln w="34920">
                <a:solidFill>
                  <a:srgbClr val="ff66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63320" y="2738880"/>
                <a:ext cx="0" cy="2270880"/>
              </a:xfrm>
              <a:prstGeom prst="line">
                <a:avLst/>
              </a:prstGeom>
              <a:ln w="34920">
                <a:solidFill>
                  <a:srgbClr val="99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471040" y="2738880"/>
                <a:ext cx="4292280" cy="2270880"/>
              </a:xfrm>
              <a:prstGeom prst="line">
                <a:avLst/>
              </a:prstGeom>
              <a:ln w="34920">
                <a:solidFill>
                  <a:srgbClr val="9933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 txBox="1"/>
            <p:nvPr/>
          </p:nvSpPr>
          <p:spPr>
            <a:xfrm>
              <a:off x="4590000" y="5210640"/>
              <a:ext cx="304920" cy="18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ngsanaUPC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gsanaUPC"/>
                <a:ea typeface="AngsanaUPC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828800" y="3696840"/>
              <a:ext cx="306720" cy="18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ngsanaUPC"/>
                </a:rPr>
                <a:t>q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gsanaUPC"/>
                <a:ea typeface="AngsanaUPC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282920" y="2370600"/>
              <a:ext cx="306720" cy="18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ngsanaUPC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gsanaUPC"/>
                <a:ea typeface="AngsanaUPC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042680" y="3696840"/>
              <a:ext cx="306360" cy="18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ngsanaUPC"/>
                </a:rPr>
                <a:t>q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gsanaUPC"/>
                <a:ea typeface="AngsanaUPC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20044200">
              <a:off x="3063240" y="3412800"/>
              <a:ext cx="2399040" cy="45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ngsanaUPC"/>
                </a:rPr>
                <a:t>p + q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gsanaUPC"/>
                <a:ea typeface="AngsanaUP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09:35:39Z</dcterms:created>
  <dc:creator>Peel District School Board</dc:creator>
  <dc:description/>
  <dc:language>en-US</dc:language>
  <cp:lastModifiedBy>Paul Alves</cp:lastModifiedBy>
  <dcterms:modified xsi:type="dcterms:W3CDTF">2007-08-15T01:10:39Z</dcterms:modified>
  <cp:revision>6</cp:revision>
  <dc:subject/>
  <dc:title>Slide 1</dc:title>
</cp:coreProperties>
</file>