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EA3-A21C-40B3-BA26-3F1CDEF0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871-51A5-4BAE-B49F-7E81D9F0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44C8-48E8-44C0-A2C1-4D81ACD9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717C-71E3-4052-8522-0BA915CF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730D-704B-4D17-A1C2-95E09C26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25C6-2F50-45F7-A0D0-2C4610BA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DDE-4E46-4B9D-90D8-2694A585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8543-7092-44D4-8354-14E6DCBB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3AA3-C32D-4649-AE20-58082EAF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A299-48D6-43E0-A49E-6C34DE75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F241-9A4D-4E62-9E43-B7F9A65A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EBD3-C329-4E38-AABD-F206273F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D73C-F0C7-453B-96B6-25C1E0217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near &amp; Quadratic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 2.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Behaviour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dratic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Grapher2"/>
          <p:cNvGraphicFramePr/>
          <p:nvPr/>
        </p:nvGraphicFramePr>
        <p:xfrm>
          <a:off x="495360" y="1600200"/>
          <a:ext cx="2857320" cy="28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Grapher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600200"/>
                    <a:ext cx="285732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581280" y="1905120"/>
            <a:ext cx="5045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now look a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behavio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parabola.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roaches infinity (imagine travelling to the right on the parabola), what happens to valu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get larger or we can say that they approach infin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roaches negative infinity (imagine travelling to the left on the parbola), what happens to valu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get larger again or we can say that they approach infin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ummarize the end behaviour in this man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Grapher2"/>
          <p:cNvGraphicFramePr/>
          <p:nvPr/>
        </p:nvGraphicFramePr>
        <p:xfrm>
          <a:off x="5580000" y="1628640"/>
          <a:ext cx="2185920" cy="21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Grapher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1628640"/>
                    <a:ext cx="218592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Grapher1"/>
          <p:cNvGraphicFramePr/>
          <p:nvPr/>
        </p:nvGraphicFramePr>
        <p:xfrm>
          <a:off x="1403280" y="1628640"/>
          <a:ext cx="2185920" cy="218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Grapher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1628640"/>
                    <a:ext cx="218592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 - Inter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4508640"/>
            <a:ext cx="8146800" cy="15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x-intercept is the x-value where the graph crosses the x-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619280" y="2332080"/>
            <a:ext cx="1800360" cy="131904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813800">
            <a:off x="2819160" y="2895120"/>
            <a:ext cx="863640" cy="142920"/>
          </a:xfrm>
          <a:prstGeom prst="leftArrow">
            <a:avLst>
              <a:gd name="adj1" fmla="val 50000"/>
              <a:gd name="adj2" fmla="val 15107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2276640"/>
            <a:ext cx="223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x-intercept is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9211400">
            <a:off x="5791320" y="2895120"/>
            <a:ext cx="647640" cy="144720"/>
          </a:xfrm>
          <a:prstGeom prst="rightArrow">
            <a:avLst>
              <a:gd name="adj1" fmla="val 50000"/>
              <a:gd name="adj2" fmla="val 11187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rot="2388600">
            <a:off x="6895440" y="2903040"/>
            <a:ext cx="647640" cy="144720"/>
          </a:xfrm>
          <a:prstGeom prst="rightArrow">
            <a:avLst>
              <a:gd name="adj1" fmla="val 50000"/>
              <a:gd name="adj2" fmla="val 11187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3645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x-intercepts are 3 and -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0485 L -0.07865 -0.05389 E">
                                      <p:cBhvr>
                                        <p:cTn id="16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82211E-006 L 0.05121 -0.05251 E">
                                      <p:cBhvr>
                                        <p:cTn id="189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5.6211E-007 L -0.03142 -0.0421 E">
                                      <p:cBhvr>
                                        <p:cTn id="193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Grapher2"/>
          <p:cNvGraphicFramePr/>
          <p:nvPr/>
        </p:nvGraphicFramePr>
        <p:xfrm>
          <a:off x="5724360" y="1484280"/>
          <a:ext cx="316872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Grapher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1484280"/>
                    <a:ext cx="316872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HiddenControl1"/>
          <p:cNvGraphicFramePr/>
          <p:nvPr/>
        </p:nvGraphicFramePr>
        <p:xfrm>
          <a:off x="539640" y="1413000"/>
          <a:ext cx="2737080" cy="30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HiddenControl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13000"/>
                    <a:ext cx="2737080" cy="30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dratic Function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X-Inter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1773360"/>
            <a:ext cx="216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arabola has two x-intercep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Grapher2"/>
          <p:cNvGraphicFramePr/>
          <p:nvPr/>
        </p:nvGraphicFramePr>
        <p:xfrm>
          <a:off x="3059280" y="3689280"/>
          <a:ext cx="3168360" cy="316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Grapher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3689280"/>
                    <a:ext cx="316836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4572000" y="2708280"/>
            <a:ext cx="216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arabola has no x-intercep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9640" y="5516640"/>
            <a:ext cx="2532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arabola has one x-intercept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86560" y="2781000"/>
            <a:ext cx="938880" cy="2497320"/>
            <a:chOff x="4786560" y="2781000"/>
            <a:chExt cx="938880" cy="2497320"/>
          </a:xfrm>
        </p:grpSpPr>
        <p:sp>
          <p:nvSpPr>
            <p:cNvPr id="127" name=""/>
            <p:cNvSpPr/>
            <p:nvPr/>
          </p:nvSpPr>
          <p:spPr>
            <a:xfrm>
              <a:off x="5230800" y="5207040"/>
              <a:ext cx="730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859280" y="2780640"/>
              <a:ext cx="866160" cy="244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786560" y="2780640"/>
              <a:ext cx="866160" cy="244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403280" y="-98640"/>
            <a:ext cx="720360" cy="3742920"/>
            <a:chOff x="1403280" y="-98640"/>
            <a:chExt cx="720360" cy="3742920"/>
          </a:xfrm>
        </p:grpSpPr>
        <p:grpSp>
          <p:nvGrpSpPr>
            <p:cNvPr id="131" name=""/>
            <p:cNvGrpSpPr/>
            <p:nvPr/>
          </p:nvGrpSpPr>
          <p:grpSpPr>
            <a:xfrm>
              <a:off x="1403280" y="-98640"/>
              <a:ext cx="720360" cy="3742920"/>
              <a:chOff x="1403280" y="-98640"/>
              <a:chExt cx="720360" cy="3742920"/>
            </a:xfrm>
          </p:grpSpPr>
          <p:sp>
            <p:nvSpPr>
              <p:cNvPr id="132" name=""/>
              <p:cNvSpPr/>
              <p:nvPr/>
            </p:nvSpPr>
            <p:spPr>
              <a:xfrm flipH="1" flipV="1">
                <a:off x="1402920" y="-98640"/>
                <a:ext cx="720000" cy="374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1403640" y="-99000"/>
                <a:ext cx="720000" cy="374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1459080" y="2924280"/>
              <a:ext cx="624960" cy="73080"/>
              <a:chOff x="1459080" y="2924280"/>
              <a:chExt cx="624960" cy="73080"/>
            </a:xfrm>
          </p:grpSpPr>
          <p:sp>
            <p:nvSpPr>
              <p:cNvPr id="135" name=""/>
              <p:cNvSpPr/>
              <p:nvPr/>
            </p:nvSpPr>
            <p:spPr>
              <a:xfrm>
                <a:off x="1459080" y="2924280"/>
                <a:ext cx="72720" cy="73080"/>
              </a:xfrm>
              <a:prstGeom prst="ellipse">
                <a:avLst/>
              </a:prstGeom>
              <a:solidFill>
                <a:srgbClr val="ff0000">
                  <a:alpha val="8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11320" y="2924280"/>
                <a:ext cx="72720" cy="73080"/>
              </a:xfrm>
              <a:prstGeom prst="ellipse">
                <a:avLst/>
              </a:prstGeom>
              <a:solidFill>
                <a:srgbClr val="ff0000">
                  <a:alpha val="8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7020000" y="838080"/>
            <a:ext cx="720360" cy="1869480"/>
            <a:chOff x="7020000" y="838080"/>
            <a:chExt cx="720360" cy="1869480"/>
          </a:xfrm>
        </p:grpSpPr>
        <p:sp>
          <p:nvSpPr>
            <p:cNvPr id="138" name=""/>
            <p:cNvSpPr/>
            <p:nvPr/>
          </p:nvSpPr>
          <p:spPr>
            <a:xfrm flipH="1" flipV="1">
              <a:off x="7020000" y="837720"/>
              <a:ext cx="720000" cy="186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7020360" y="837720"/>
              <a:ext cx="720000" cy="186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 fun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for a relation to be a function, for every input value, there can only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est to see if the relation is a function, we perform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ertical line t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rtical Lin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vertical line were to go through a graph, would it cross through the graph more than once at any sp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your mouse and watch the vertical line go through the linear graph and then do it again to go through the parabol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vertical line only crosses each graph once, each one is considered to be a function. Every input valu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ha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nly 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tput valu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Grapher2"/>
          <p:cNvGraphicFramePr/>
          <p:nvPr/>
        </p:nvGraphicFramePr>
        <p:xfrm>
          <a:off x="6012000" y="3933720"/>
          <a:ext cx="2187360" cy="21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Grapher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3933720"/>
                    <a:ext cx="218736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5940360" y="4005360"/>
            <a:ext cx="0" cy="19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Grapher1"/>
          <p:cNvGraphicFramePr/>
          <p:nvPr/>
        </p:nvGraphicFramePr>
        <p:xfrm>
          <a:off x="5973840" y="1413000"/>
          <a:ext cx="2185920" cy="21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Grapher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73840" y="1413000"/>
                    <a:ext cx="21859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5940360" y="1557360"/>
            <a:ext cx="0" cy="19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79280" y="5805360"/>
            <a:ext cx="8533440" cy="793800"/>
            <a:chOff x="179280" y="5805360"/>
            <a:chExt cx="8533440" cy="793800"/>
          </a:xfrm>
        </p:grpSpPr>
        <p:sp>
          <p:nvSpPr>
            <p:cNvPr id="54" name=""/>
            <p:cNvSpPr/>
            <p:nvPr/>
          </p:nvSpPr>
          <p:spPr>
            <a:xfrm>
              <a:off x="402840" y="6230880"/>
              <a:ext cx="83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nking??? How would you change the graphs so that they were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no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functio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MCj02391950000[1]" descr=""/>
            <p:cNvPicPr/>
            <p:nvPr/>
          </p:nvPicPr>
          <p:blipFill>
            <a:blip r:embed="rId5"/>
            <a:stretch/>
          </p:blipFill>
          <p:spPr>
            <a:xfrm>
              <a:off x="179280" y="5805360"/>
              <a:ext cx="520920" cy="4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 a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393336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aph above is clear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 a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nce the vertical line crosses the graph more than o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put valu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has two output value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xcept for one. Which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488000" cy="216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Grapher4"/>
          <p:cNvGraphicFramePr/>
          <p:nvPr/>
        </p:nvGraphicFramePr>
        <p:xfrm>
          <a:off x="2700360" y="1557360"/>
          <a:ext cx="218592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Grapher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1557360"/>
                    <a:ext cx="21859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 flipV="1">
            <a:off x="2843280" y="1699920"/>
            <a:ext cx="0" cy="18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492360" y="2249640"/>
            <a:ext cx="73080" cy="819000"/>
            <a:chOff x="3492360" y="2249640"/>
            <a:chExt cx="73080" cy="819000"/>
          </a:xfrm>
        </p:grpSpPr>
        <p:sp>
          <p:nvSpPr>
            <p:cNvPr id="63" name=""/>
            <p:cNvSpPr/>
            <p:nvPr/>
          </p:nvSpPr>
          <p:spPr>
            <a:xfrm>
              <a:off x="3492360" y="2249640"/>
              <a:ext cx="73080" cy="72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92360" y="2995560"/>
              <a:ext cx="73080" cy="73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 flipH="1" flipV="1" rot="10190400">
            <a:off x="2077200" y="2164320"/>
            <a:ext cx="1726560" cy="12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rot="11409600">
            <a:off x="2072520" y="1857600"/>
            <a:ext cx="172656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5 -3.91858E-006 L 0.07517 -3.91858E-006 E">
                                      <p:cBhvr>
                                        <p:cTn id="3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nea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from your previous math classes that linear functions can be written in the following w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= mx +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lope of the line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y-intercept of th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positive, the line climbs from left to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negative, the line falls from left to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uld be considere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ading coeffic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linear function.  In future lessons, we will be us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represent the leading coefficient for all polynomial func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88000" y="3500280"/>
            <a:ext cx="2592360" cy="1368720"/>
          </a:xfrm>
          <a:prstGeom prst="cloudCallout">
            <a:avLst>
              <a:gd name="adj1" fmla="val -45162"/>
              <a:gd name="adj2" fmla="val 63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ading coeffici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the coefficient of the first term in a polynomial in descending order by degree (value of exponent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main and 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mai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set of x-values (or input values) that exist within the graph or the equation of a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g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set of y-values (or output values) that exist within the graph or the equation of a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ain and  Range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ear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221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look at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m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is function. Th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a very large positive or negative number and anything in between.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t restricted in any way, we define the domain in the following man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: All real numbers or  {x| 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Є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95280" y="1434960"/>
            <a:ext cx="2857680" cy="2857680"/>
            <a:chOff x="395280" y="1434960"/>
            <a:chExt cx="2857680" cy="2857680"/>
          </a:xfrm>
        </p:grpSpPr>
        <p:graphicFrame>
          <p:nvGraphicFramePr>
            <p:cNvPr id="75" name="Grapher1"/>
            <p:cNvGraphicFramePr/>
            <p:nvPr/>
          </p:nvGraphicFramePr>
          <p:xfrm>
            <a:off x="395280" y="1434960"/>
            <a:ext cx="2857680" cy="2857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6" name="Grapher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1434960"/>
                      <a:ext cx="2857680" cy="285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" name=""/>
            <p:cNvSpPr/>
            <p:nvPr/>
          </p:nvSpPr>
          <p:spPr>
            <a:xfrm flipV="1">
              <a:off x="682560" y="1699920"/>
              <a:ext cx="2160720" cy="20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68360" y="547848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look at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In the same way, th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a very large positive or negative number and anything in between.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t restricted in any way, we define the range in the following man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: All real numbers or  {y| y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Є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1644480"/>
            <a:ext cx="49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fun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have the same domain and range as the example but not all. What type of linear functions would have a different domain and/or rang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orizontal line will have the same domain but its range will be just a single number.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value of all the points on the l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 Behaviour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ear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27480" y="1720800"/>
            <a:ext cx="5565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we discuss end behaviour, we are looking at what happens 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values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roaches positive infinity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negative infinity (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look at our example.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roaches infinity (imagine travelling to the right on the line), what happens to valu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get larger or we can say that they approach infin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roaches negative infinity (imagine travelling to the left on the line), what happens to valu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get smaller or we can say that they approach negative infin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ummarize the end behaviour in this man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79280" y="4292640"/>
            <a:ext cx="2737080" cy="1970280"/>
            <a:chOff x="179280" y="4292640"/>
            <a:chExt cx="2737080" cy="1970280"/>
          </a:xfrm>
        </p:grpSpPr>
        <p:sp>
          <p:nvSpPr>
            <p:cNvPr id="83" name=""/>
            <p:cNvSpPr/>
            <p:nvPr/>
          </p:nvSpPr>
          <p:spPr>
            <a:xfrm>
              <a:off x="179280" y="4797360"/>
              <a:ext cx="2737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it possible to draw a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raight lin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with the following end behaviou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-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and as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-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-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MCj02391950000[1]" descr=""/>
            <p:cNvPicPr/>
            <p:nvPr/>
          </p:nvPicPr>
          <p:blipFill>
            <a:blip r:embed="rId1"/>
            <a:stretch/>
          </p:blipFill>
          <p:spPr>
            <a:xfrm>
              <a:off x="395280" y="4292640"/>
              <a:ext cx="520560" cy="4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179280" y="1434960"/>
            <a:ext cx="2857680" cy="2857680"/>
            <a:chOff x="179280" y="1434960"/>
            <a:chExt cx="2857680" cy="2857680"/>
          </a:xfrm>
        </p:grpSpPr>
        <p:graphicFrame>
          <p:nvGraphicFramePr>
            <p:cNvPr id="86" name="Grapher1"/>
            <p:cNvGraphicFramePr/>
            <p:nvPr/>
          </p:nvGraphicFramePr>
          <p:xfrm>
            <a:off x="179280" y="1434960"/>
            <a:ext cx="2857680" cy="285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" name="Grapher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9280" y="1434960"/>
                      <a:ext cx="2857680" cy="285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 flipV="1">
              <a:off x="466560" y="1699920"/>
              <a:ext cx="2160720" cy="20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ain and Range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dratic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Grapher1"/>
          <p:cNvGraphicFramePr/>
          <p:nvPr/>
        </p:nvGraphicFramePr>
        <p:xfrm>
          <a:off x="179280" y="1628640"/>
          <a:ext cx="2857680" cy="28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Graph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8640"/>
                    <a:ext cx="285768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203640" y="1989000"/>
            <a:ext cx="54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consider the domain. Since our graph is not restricted (we could see very large positive and negative numbers and everything in between), the domai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real numbers or  {x| 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1184040" y="1771200"/>
            <a:ext cx="863640" cy="288720"/>
          </a:xfrm>
          <a:prstGeom prst="leftArrow">
            <a:avLst>
              <a:gd name="adj1" fmla="val 50000"/>
              <a:gd name="adj2" fmla="val 747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3573360"/>
            <a:ext cx="55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owever, is restricted. 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values will not get lower than -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443700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our y-values are restricted, the range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real numbers greater than and including -5 or {y| y≥-5, y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3511440"/>
            <a:ext cx="1081080" cy="289080"/>
          </a:xfrm>
          <a:prstGeom prst="rightArrow">
            <a:avLst>
              <a:gd name="adj1" fmla="val 50000"/>
              <a:gd name="adj2" fmla="val 934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45320" y="5157720"/>
            <a:ext cx="7979040" cy="800280"/>
            <a:chOff x="445320" y="5157720"/>
            <a:chExt cx="7979040" cy="800280"/>
          </a:xfrm>
        </p:grpSpPr>
        <p:sp>
          <p:nvSpPr>
            <p:cNvPr id="98" name=""/>
            <p:cNvSpPr/>
            <p:nvPr/>
          </p:nvSpPr>
          <p:spPr>
            <a:xfrm>
              <a:off x="445320" y="5589720"/>
              <a:ext cx="797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cribe the parabola that has domain {x| x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Є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} and range {y| y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, y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Є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}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MCj02391950000[1]" descr=""/>
            <p:cNvPicPr/>
            <p:nvPr/>
          </p:nvPicPr>
          <p:blipFill>
            <a:blip r:embed="rId3"/>
            <a:stretch/>
          </p:blipFill>
          <p:spPr>
            <a:xfrm>
              <a:off x="468360" y="5157720"/>
              <a:ext cx="520560" cy="4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6315 L 3.61111E-006 0.18899 E">
                                      <p:cBhvr>
                                        <p:cTn id="121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18:21:16Z</dcterms:created>
  <dc:creator>Tina Franzen</dc:creator>
  <dc:description/>
  <dc:language>en-US</dc:language>
  <cp:lastModifiedBy>Paul Alves</cp:lastModifiedBy>
  <dcterms:modified xsi:type="dcterms:W3CDTF">2007-08-15T05:59:01Z</dcterms:modified>
  <cp:revision>32</cp:revision>
  <dc:subject/>
  <dc:title>Linear &amp; Quadratic Functions</dc:title>
</cp:coreProperties>
</file>