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5C22-1FBA-4E66-9F6A-A7BCF354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:  This definition for ‘degree’ has been simplified intentionally to help students understand the concept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93F-68D7-4F47-8530-1E189BC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721-C25F-4717-95A4-CEFCFA00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85C-4566-4CD3-A985-914B672C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95B-86D6-4D55-B855-1E88E1D5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71E-F18C-45BA-8886-3832B0CD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BA7-CFCB-444D-9AA7-0D616C7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9D3-165B-45A5-A75A-C54AEBA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608-C02C-4F4A-BE8E-011A913B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431-882A-4A11-8D1C-3A8440CA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95D-8862-41C2-A5DB-F03AAF7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8AF-A062-49D5-9910-ACB48E5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E7A-BF2E-4559-BC90-FB61814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0A9-49F5-4DF3-8372-DEA4E472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nom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 2.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Grapher2"/>
          <p:cNvGraphicFramePr/>
          <p:nvPr/>
        </p:nvGraphicFramePr>
        <p:xfrm>
          <a:off x="250920" y="4124160"/>
          <a:ext cx="1968480" cy="19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24160"/>
                    <a:ext cx="1968480" cy="19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Grapher1"/>
          <p:cNvGraphicFramePr/>
          <p:nvPr/>
        </p:nvGraphicFramePr>
        <p:xfrm>
          <a:off x="250920" y="231624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31624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197080" y="1700280"/>
          <a:ext cx="6696000" cy="492588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1008000"/>
                <a:gridCol w="934920"/>
                <a:gridCol w="158436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-3)(x-1)(x+1)(x+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7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x+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2,-1,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≥ -12.95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-3)(x-1)(x+1)(x+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7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x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,-1,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 ≤ 12.95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Grapher2"/>
          <p:cNvGraphicFramePr/>
          <p:nvPr/>
        </p:nvGraphicFramePr>
        <p:xfrm>
          <a:off x="250920" y="4556160"/>
          <a:ext cx="19684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5561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Grapher1"/>
          <p:cNvGraphicFramePr/>
          <p:nvPr/>
        </p:nvGraphicFramePr>
        <p:xfrm>
          <a:off x="250920" y="254016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5401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97080" y="1700280"/>
          <a:ext cx="6696000" cy="492588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1008000"/>
                <a:gridCol w="934920"/>
                <a:gridCol w="158436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-4)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x-1)(x+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8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5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8x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1,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≥ -16.95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-4)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x-1)(x+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8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5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x+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,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 ≤ 16.95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Grapher2"/>
          <p:cNvGraphicFramePr/>
          <p:nvPr/>
        </p:nvGraphicFramePr>
        <p:xfrm>
          <a:off x="250920" y="4629240"/>
          <a:ext cx="19684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62924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Grapher1"/>
          <p:cNvGraphicFramePr/>
          <p:nvPr/>
        </p:nvGraphicFramePr>
        <p:xfrm>
          <a:off x="250920" y="256536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5653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97080" y="1700280"/>
          <a:ext cx="6696000" cy="492588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1008000"/>
                <a:gridCol w="934920"/>
                <a:gridCol w="158436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+2)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x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5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6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4x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≥ -8.54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+2)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x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x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 ≤ 8.54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Grapher1"/>
          <p:cNvGraphicFramePr/>
          <p:nvPr/>
        </p:nvGraphicFramePr>
        <p:xfrm>
          <a:off x="179280" y="4581360"/>
          <a:ext cx="1968480" cy="19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Graph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581360"/>
                    <a:ext cx="1968480" cy="19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Grapher2"/>
          <p:cNvGraphicFramePr/>
          <p:nvPr/>
        </p:nvGraphicFramePr>
        <p:xfrm>
          <a:off x="179280" y="261288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Grapher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1288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24000" y="1700280"/>
          <a:ext cx="6769080" cy="4925880"/>
        </p:xfrm>
        <a:graphic>
          <a:graphicData uri="http://schemas.openxmlformats.org/drawingml/2006/table">
            <a:tbl>
              <a:tblPr/>
              <a:tblGrid>
                <a:gridCol w="2303640"/>
                <a:gridCol w="938160"/>
                <a:gridCol w="1008000"/>
                <a:gridCol w="934920"/>
                <a:gridCol w="158436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-3)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12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54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108x+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≥ 0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-3)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2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4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08x-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 ≤ 0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nom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exponent within the polynomial determines the degree of the polynom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29600" cy="3441600"/>
        </p:xfrm>
        <a:graphic>
          <a:graphicData uri="http://schemas.openxmlformats.org/drawingml/2006/table">
            <a:tbl>
              <a:tblPr/>
              <a:tblGrid>
                <a:gridCol w="3311640"/>
                <a:gridCol w="2174760"/>
                <a:gridCol w="2743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nomial Function in General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11280" y="4149720"/>
                <a:ext cx="3097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11280" y="3645000"/>
                <a:ext cx="2592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11280" y="3141720"/>
                <a:ext cx="1800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4360" y="2637000"/>
                <a:ext cx="1152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lor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pher1"/>
          <p:cNvGraphicFramePr/>
          <p:nvPr/>
        </p:nvGraphicFramePr>
        <p:xfrm>
          <a:off x="1382760" y="1600200"/>
          <a:ext cx="2185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Graph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600200"/>
                    <a:ext cx="2185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Grapher2"/>
          <p:cNvGraphicFramePr/>
          <p:nvPr/>
        </p:nvGraphicFramePr>
        <p:xfrm>
          <a:off x="5573880" y="1600200"/>
          <a:ext cx="21859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Grapher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3880" y="1600200"/>
                    <a:ext cx="2185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Grapher3"/>
          <p:cNvGraphicFramePr/>
          <p:nvPr/>
        </p:nvGraphicFramePr>
        <p:xfrm>
          <a:off x="1382760" y="3938760"/>
          <a:ext cx="21873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Grapher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2760" y="3938760"/>
                    <a:ext cx="2187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Grapher4"/>
          <p:cNvGraphicFramePr/>
          <p:nvPr/>
        </p:nvGraphicFramePr>
        <p:xfrm>
          <a:off x="5573880" y="3938760"/>
          <a:ext cx="218736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Grapher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3880" y="3938760"/>
                    <a:ext cx="2187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492360" y="162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068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0920" y="40831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2354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ading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ing coefficient is the coefficient of the first term in a polynomial when the terms are written in descending order by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quartic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0 has a leading coefficient of 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b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8920" y="12682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two graphs and discuss the questions give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400536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600" y="4149720"/>
            <a:ext cx="67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How can you check to see if both graphs are fun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7600" y="5013360"/>
            <a:ext cx="54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at is the end behaviour for each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9040" y="5446800"/>
            <a:ext cx="77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Which graph do you think has a positive leading coeffient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9120" y="5878440"/>
            <a:ext cx="80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Which graph do you think has a negative leading coefficient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58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How many x-intercepts do graphs A &amp; B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00" y="1773360"/>
            <a:ext cx="5208840" cy="2330280"/>
            <a:chOff x="1908000" y="1773360"/>
            <a:chExt cx="5208840" cy="2330280"/>
          </a:xfrm>
        </p:grpSpPr>
        <p:graphicFrame>
          <p:nvGraphicFramePr>
            <p:cNvPr id="86" name="Grapher1"/>
            <p:cNvGraphicFramePr/>
            <p:nvPr/>
          </p:nvGraphicFramePr>
          <p:xfrm>
            <a:off x="1908000" y="2133720"/>
            <a:ext cx="1970280" cy="196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Grapher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2133720"/>
                      <a:ext cx="1970280" cy="19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Grapher2"/>
            <p:cNvGraphicFramePr/>
            <p:nvPr/>
          </p:nvGraphicFramePr>
          <p:xfrm>
            <a:off x="5148360" y="2133720"/>
            <a:ext cx="1968480" cy="196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Grapher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8360" y="2133720"/>
                      <a:ext cx="1968480" cy="196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0" name=""/>
            <p:cNvGrpSpPr/>
            <p:nvPr/>
          </p:nvGrpSpPr>
          <p:grpSpPr>
            <a:xfrm>
              <a:off x="2268360" y="1773360"/>
              <a:ext cx="4464360" cy="439560"/>
              <a:chOff x="2268360" y="1773360"/>
              <a:chExt cx="4464360" cy="4395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844640"/>
                <a:ext cx="115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raph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68360" y="1773360"/>
                <a:ext cx="1152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raph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Grapher1"/>
          <p:cNvGraphicFramePr/>
          <p:nvPr/>
        </p:nvGraphicFramePr>
        <p:xfrm>
          <a:off x="468360" y="2421000"/>
          <a:ext cx="19684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Graph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Grapher2"/>
          <p:cNvGraphicFramePr/>
          <p:nvPr/>
        </p:nvGraphicFramePr>
        <p:xfrm>
          <a:off x="468360" y="4149720"/>
          <a:ext cx="19699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Grapher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149720"/>
                    <a:ext cx="19699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411280" y="1628640"/>
          <a:ext cx="6408720" cy="4265640"/>
        </p:xfrm>
        <a:graphic>
          <a:graphicData uri="http://schemas.openxmlformats.org/drawingml/2006/table">
            <a:tbl>
              <a:tblPr/>
              <a:tblGrid>
                <a:gridCol w="1729080"/>
                <a:gridCol w="1152360"/>
                <a:gridCol w="1008000"/>
                <a:gridCol w="935280"/>
                <a:gridCol w="158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+1)(x+4)(x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3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6x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4, -1,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+1)(x+4)(x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6x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, -1,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Grapher2"/>
          <p:cNvGraphicFramePr/>
          <p:nvPr/>
        </p:nvGraphicFramePr>
        <p:xfrm>
          <a:off x="517680" y="4165560"/>
          <a:ext cx="19684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655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Grapher1"/>
          <p:cNvGraphicFramePr/>
          <p:nvPr/>
        </p:nvGraphicFramePr>
        <p:xfrm>
          <a:off x="515880" y="234936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880" y="23493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411280" y="1628640"/>
          <a:ext cx="6408720" cy="4321440"/>
        </p:xfrm>
        <a:graphic>
          <a:graphicData uri="http://schemas.openxmlformats.org/drawingml/2006/table">
            <a:tbl>
              <a:tblPr/>
              <a:tblGrid>
                <a:gridCol w="1729080"/>
                <a:gridCol w="1152360"/>
                <a:gridCol w="1008000"/>
                <a:gridCol w="935280"/>
                <a:gridCol w="158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+3)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x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5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3x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3,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+3)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x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x+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,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Grapher2"/>
          <p:cNvGraphicFramePr/>
          <p:nvPr/>
        </p:nvGraphicFramePr>
        <p:xfrm>
          <a:off x="539640" y="4197240"/>
          <a:ext cx="19684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Grapher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19724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Grapher1"/>
          <p:cNvGraphicFramePr/>
          <p:nvPr/>
        </p:nvGraphicFramePr>
        <p:xfrm>
          <a:off x="515880" y="242100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Grapher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880" y="242100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1280" y="1628640"/>
          <a:ext cx="6408720" cy="4321440"/>
        </p:xfrm>
        <a:graphic>
          <a:graphicData uri="http://schemas.openxmlformats.org/drawingml/2006/table">
            <a:tbl>
              <a:tblPr/>
              <a:tblGrid>
                <a:gridCol w="1729080"/>
                <a:gridCol w="1152360"/>
                <a:gridCol w="1008000"/>
                <a:gridCol w="935280"/>
                <a:gridCol w="158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d form &amp; Standar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Inter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 of Leading 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 an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(x-2)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6x</a:t>
                      </a:r>
                      <a:r>
                        <a:rPr b="0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2x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cto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(x-2)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=-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6x</a:t>
                      </a:r>
                      <a:r>
                        <a:rPr b="0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2x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x| x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{y| y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Є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014560" y="119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hart shows the properties of the graphs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rtic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12682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two graphs and discuss the questions given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400536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7600" y="4149720"/>
            <a:ext cx="67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How can you check to see if both graphs are fun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7600" y="5013360"/>
            <a:ext cx="54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at is the end behaviour for each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9040" y="5446800"/>
            <a:ext cx="77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Which graph do you think has a positive leading coeffient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9120" y="5878440"/>
            <a:ext cx="80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Which graph do you think has a negative leading coefficient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458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How many x-intercepts do graphs A &amp; B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68360" y="1773360"/>
            <a:ext cx="4464360" cy="439560"/>
            <a:chOff x="2268360" y="1773360"/>
            <a:chExt cx="4464360" cy="439560"/>
          </a:xfrm>
        </p:grpSpPr>
        <p:sp>
          <p:nvSpPr>
            <p:cNvPr id="123" name=""/>
            <p:cNvSpPr/>
            <p:nvPr/>
          </p:nvSpPr>
          <p:spPr>
            <a:xfrm>
              <a:off x="5580000" y="1844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ph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360" y="1773360"/>
              <a:ext cx="115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ph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Grapher3"/>
          <p:cNvGraphicFramePr/>
          <p:nvPr/>
        </p:nvGraphicFramePr>
        <p:xfrm>
          <a:off x="1882800" y="2108160"/>
          <a:ext cx="19684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Grapher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21081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Grapher4"/>
          <p:cNvGraphicFramePr/>
          <p:nvPr/>
        </p:nvGraphicFramePr>
        <p:xfrm>
          <a:off x="5124600" y="2108160"/>
          <a:ext cx="196848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Grapher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24600" y="2108160"/>
                    <a:ext cx="19684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1:32:17Z</dcterms:created>
  <dc:creator>Tina Franzen</dc:creator>
  <dc:description/>
  <dc:language>en-US</dc:language>
  <cp:lastModifiedBy>Paul Alves</cp:lastModifiedBy>
  <dcterms:modified xsi:type="dcterms:W3CDTF">2007-08-15T06:00:39Z</dcterms:modified>
  <cp:revision>35</cp:revision>
  <dc:subject/>
  <dc:title>Polynomial Functions</dc:title>
</cp:coreProperties>
</file>