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6CB-DFCF-43CF-BDFF-9CAC36E5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42A-957E-4600-BD0E-2D07C684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BDE-500B-4F87-AB5E-EE6034BE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C37-C9B9-42F4-B8AE-F4E73620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AD3-D008-47CE-8C90-26582CB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697-0565-4CD2-91F9-8CA08398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608-8261-4984-B616-4D8622F9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953-2B51-447C-9723-82D015F6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444-8D02-43C3-8142-EC60484D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885-AD5E-4822-8946-07C7B1A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B2C-16E0-4192-A347-61554B7E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381-0A1F-43BC-867F-EBB270D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96C-117A-4089-A451-389EABB9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-int Slop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m and b re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0080" y="1600200"/>
          <a:ext cx="2286000" cy="3581280"/>
        </p:xfrm>
        <a:graphic>
          <a:graphicData uri="http://schemas.openxmlformats.org/drawingml/2006/table">
            <a:tbl>
              <a:tblPr/>
              <a:tblGrid>
                <a:gridCol w="1257480"/>
                <a:gridCol w="1028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= -3x +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table and look at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42900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x =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y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ation has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772400" cy="496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2193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2860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8120" y="380988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031000" y="5410080"/>
            <a:ext cx="318960" cy="368280"/>
            <a:chOff x="5031000" y="5410080"/>
            <a:chExt cx="318960" cy="368280"/>
          </a:xfrm>
        </p:grpSpPr>
        <p:sp>
          <p:nvSpPr>
            <p:cNvPr id="203" name=""/>
            <p:cNvSpPr/>
            <p:nvPr/>
          </p:nvSpPr>
          <p:spPr>
            <a:xfrm flipV="1">
              <a:off x="5349960" y="5450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31000" y="541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668680" y="5410080"/>
            <a:ext cx="318960" cy="368280"/>
            <a:chOff x="2668680" y="5410080"/>
            <a:chExt cx="318960" cy="368280"/>
          </a:xfrm>
        </p:grpSpPr>
        <p:sp>
          <p:nvSpPr>
            <p:cNvPr id="206" name=""/>
            <p:cNvSpPr/>
            <p:nvPr/>
          </p:nvSpPr>
          <p:spPr>
            <a:xfrm flipV="1">
              <a:off x="2987640" y="5450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68680" y="541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031000" y="3429000"/>
            <a:ext cx="318960" cy="368280"/>
            <a:chOff x="5031000" y="3429000"/>
            <a:chExt cx="318960" cy="368280"/>
          </a:xfrm>
        </p:grpSpPr>
        <p:sp>
          <p:nvSpPr>
            <p:cNvPr id="209" name=""/>
            <p:cNvSpPr/>
            <p:nvPr/>
          </p:nvSpPr>
          <p:spPr>
            <a:xfrm flipV="1">
              <a:off x="5349960" y="346896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3100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268880" y="2666880"/>
            <a:ext cx="318960" cy="368280"/>
            <a:chOff x="4268880" y="2666880"/>
            <a:chExt cx="318960" cy="368280"/>
          </a:xfrm>
        </p:grpSpPr>
        <p:sp>
          <p:nvSpPr>
            <p:cNvPr id="212" name=""/>
            <p:cNvSpPr/>
            <p:nvPr/>
          </p:nvSpPr>
          <p:spPr>
            <a:xfrm flipV="1">
              <a:off x="4587840" y="27068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8880" y="266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335560" y="3048120"/>
            <a:ext cx="835920" cy="368280"/>
            <a:chOff x="5335560" y="3048120"/>
            <a:chExt cx="835920" cy="368280"/>
          </a:xfrm>
        </p:grpSpPr>
        <p:sp>
          <p:nvSpPr>
            <p:cNvPr id="215" name=""/>
            <p:cNvSpPr/>
            <p:nvPr/>
          </p:nvSpPr>
          <p:spPr>
            <a:xfrm>
              <a:off x="5375520" y="3392640"/>
              <a:ext cx="795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5560" y="3048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334120" y="5029200"/>
            <a:ext cx="837360" cy="368280"/>
            <a:chOff x="5334120" y="5029200"/>
            <a:chExt cx="837360" cy="368280"/>
          </a:xfrm>
        </p:grpSpPr>
        <p:sp>
          <p:nvSpPr>
            <p:cNvPr id="218" name=""/>
            <p:cNvSpPr/>
            <p:nvPr/>
          </p:nvSpPr>
          <p:spPr>
            <a:xfrm>
              <a:off x="5375520" y="5373720"/>
              <a:ext cx="795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5029200"/>
              <a:ext cx="8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28600" y="3657600"/>
            <a:ext cx="40384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tell them ap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497840" y="2286000"/>
            <a:ext cx="911160" cy="368280"/>
            <a:chOff x="4497840" y="2286000"/>
            <a:chExt cx="911160" cy="368280"/>
          </a:xfrm>
        </p:grpSpPr>
        <p:sp>
          <p:nvSpPr>
            <p:cNvPr id="222" name=""/>
            <p:cNvSpPr/>
            <p:nvPr/>
          </p:nvSpPr>
          <p:spPr>
            <a:xfrm>
              <a:off x="4540680" y="2630520"/>
              <a:ext cx="868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7840" y="22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31080" y="2022480"/>
            <a:ext cx="1888200" cy="1719360"/>
            <a:chOff x="631080" y="2022480"/>
            <a:chExt cx="1888200" cy="1719360"/>
          </a:xfrm>
        </p:grpSpPr>
        <p:sp>
          <p:nvSpPr>
            <p:cNvPr id="225" name=""/>
            <p:cNvSpPr/>
            <p:nvPr/>
          </p:nvSpPr>
          <p:spPr>
            <a:xfrm>
              <a:off x="1781280" y="2855880"/>
              <a:ext cx="738000" cy="1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0720" y="202248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5400" y="294948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1080" y="2436840"/>
              <a:ext cx="477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7560" y="2360520"/>
              <a:ext cx="524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4572000" y="6248520"/>
            <a:ext cx="1447920" cy="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00920" y="6019920"/>
            <a:ext cx="1256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 = ½ x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9880" y="3352680"/>
            <a:ext cx="92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 = ½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5640" y="2514600"/>
            <a:ext cx="131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 = ½ 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8440" y="1676520"/>
            <a:ext cx="131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 = ½ x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572000" y="3809880"/>
            <a:ext cx="1752480" cy="106704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572000" y="2895480"/>
            <a:ext cx="1447920" cy="121932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572000" y="2133720"/>
            <a:ext cx="914400" cy="83808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972520" y="5029200"/>
            <a:ext cx="760680" cy="368280"/>
            <a:chOff x="2972520" y="5029200"/>
            <a:chExt cx="760680" cy="368280"/>
          </a:xfrm>
        </p:grpSpPr>
        <p:sp>
          <p:nvSpPr>
            <p:cNvPr id="239" name=""/>
            <p:cNvSpPr/>
            <p:nvPr/>
          </p:nvSpPr>
          <p:spPr>
            <a:xfrm>
              <a:off x="3009240" y="5369040"/>
              <a:ext cx="723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72520" y="502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b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y-intercept (where it crosses the y ax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when x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similar to sports, to intercept means to cross the pathway of the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equation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x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know that in a table of values for a linear relationship a pattern will form.  This pattern is the rate of chan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410080" y="1600200"/>
          <a:ext cx="2286000" cy="3581280"/>
        </p:xfrm>
        <a:graphic>
          <a:graphicData uri="http://schemas.openxmlformats.org/drawingml/2006/table">
            <a:tbl>
              <a:tblPr/>
              <a:tblGrid>
                <a:gridCol w="1257480"/>
                <a:gridCol w="1028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= 2x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95680"/>
            <a:ext cx="40384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410080" y="1600200"/>
          <a:ext cx="2286000" cy="3581280"/>
        </p:xfrm>
        <a:graphic>
          <a:graphicData uri="http://schemas.openxmlformats.org/drawingml/2006/table">
            <a:tbl>
              <a:tblPr/>
              <a:tblGrid>
                <a:gridCol w="1257480"/>
                <a:gridCol w="1028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= -3x +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20968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wn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7432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5480" y="6164280"/>
            <a:ext cx="554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5016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19320" y="1828800"/>
          <a:ext cx="214632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828800"/>
                    <a:ext cx="2146320" cy="1512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268160" y="5486400"/>
            <a:ext cx="455760" cy="724680"/>
            <a:chOff x="4268160" y="5486400"/>
            <a:chExt cx="455760" cy="724680"/>
          </a:xfrm>
        </p:grpSpPr>
        <p:sp>
          <p:nvSpPr>
            <p:cNvPr id="60" name=""/>
            <p:cNvSpPr/>
            <p:nvPr/>
          </p:nvSpPr>
          <p:spPr>
            <a:xfrm flipV="1">
              <a:off x="4723920" y="5570280"/>
              <a:ext cx="0" cy="640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68160" y="5486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649760" y="5257800"/>
            <a:ext cx="1901160" cy="368280"/>
            <a:chOff x="4649760" y="5257800"/>
            <a:chExt cx="1901160" cy="368280"/>
          </a:xfrm>
        </p:grpSpPr>
        <p:sp>
          <p:nvSpPr>
            <p:cNvPr id="63" name=""/>
            <p:cNvSpPr/>
            <p:nvPr/>
          </p:nvSpPr>
          <p:spPr>
            <a:xfrm>
              <a:off x="4742280" y="5602320"/>
              <a:ext cx="1808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9760" y="525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12193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8120" y="380988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16880" y="3546360"/>
            <a:ext cx="1888200" cy="1719360"/>
            <a:chOff x="1316880" y="3546360"/>
            <a:chExt cx="1888200" cy="1719360"/>
          </a:xfrm>
        </p:grpSpPr>
        <p:sp>
          <p:nvSpPr>
            <p:cNvPr id="69" name=""/>
            <p:cNvSpPr/>
            <p:nvPr/>
          </p:nvSpPr>
          <p:spPr>
            <a:xfrm>
              <a:off x="2467080" y="4379760"/>
              <a:ext cx="738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6520" y="354636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1200" y="447336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16880" y="3960720"/>
              <a:ext cx="477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63360" y="3884400"/>
              <a:ext cx="524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724280" y="2666880"/>
            <a:ext cx="4038840" cy="1168560"/>
            <a:chOff x="4724280" y="2666880"/>
            <a:chExt cx="4038840" cy="1168560"/>
          </a:xfrm>
        </p:grpSpPr>
        <p:sp>
          <p:nvSpPr>
            <p:cNvPr id="75" name=""/>
            <p:cNvSpPr/>
            <p:nvPr/>
          </p:nvSpPr>
          <p:spPr>
            <a:xfrm>
              <a:off x="4724280" y="2743200"/>
              <a:ext cx="40388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quation: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77120" y="2666880"/>
                  <a:ext cx="175248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5016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1828800"/>
          <a:ext cx="2057400" cy="14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28800"/>
                    <a:ext cx="2057400" cy="1449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12193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419720" y="4876920"/>
            <a:ext cx="357120" cy="1369800"/>
            <a:chOff x="4419720" y="4876920"/>
            <a:chExt cx="357120" cy="1369800"/>
          </a:xfrm>
        </p:grpSpPr>
        <p:sp>
          <p:nvSpPr>
            <p:cNvPr id="83" name=""/>
            <p:cNvSpPr/>
            <p:nvPr/>
          </p:nvSpPr>
          <p:spPr>
            <a:xfrm flipV="1">
              <a:off x="4674960" y="5035320"/>
              <a:ext cx="0" cy="1211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4876920"/>
              <a:ext cx="3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46520" y="4648320"/>
            <a:ext cx="1904400" cy="368280"/>
            <a:chOff x="4646520" y="4648320"/>
            <a:chExt cx="1904400" cy="368280"/>
          </a:xfrm>
        </p:grpSpPr>
        <p:sp>
          <p:nvSpPr>
            <p:cNvPr id="86" name=""/>
            <p:cNvSpPr/>
            <p:nvPr/>
          </p:nvSpPr>
          <p:spPr>
            <a:xfrm>
              <a:off x="4742280" y="4944960"/>
              <a:ext cx="1808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46520" y="46483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316880" y="3546360"/>
            <a:ext cx="1888200" cy="1719360"/>
            <a:chOff x="1316880" y="3546360"/>
            <a:chExt cx="1888200" cy="1719360"/>
          </a:xfrm>
        </p:grpSpPr>
        <p:sp>
          <p:nvSpPr>
            <p:cNvPr id="89" name=""/>
            <p:cNvSpPr/>
            <p:nvPr/>
          </p:nvSpPr>
          <p:spPr>
            <a:xfrm>
              <a:off x="2467080" y="4379760"/>
              <a:ext cx="738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520" y="354636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71200" y="447336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6880" y="3960720"/>
              <a:ext cx="477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63360" y="3884400"/>
              <a:ext cx="524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50320" y="4876920"/>
            <a:ext cx="318600" cy="693000"/>
            <a:chOff x="6250320" y="4876920"/>
            <a:chExt cx="318600" cy="693000"/>
          </a:xfrm>
        </p:grpSpPr>
        <p:sp>
          <p:nvSpPr>
            <p:cNvPr id="95" name=""/>
            <p:cNvSpPr/>
            <p:nvPr/>
          </p:nvSpPr>
          <p:spPr>
            <a:xfrm flipV="1">
              <a:off x="6568920" y="4957200"/>
              <a:ext cx="0" cy="61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50320" y="4876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554520" y="4648320"/>
            <a:ext cx="1901520" cy="368280"/>
            <a:chOff x="6554520" y="4648320"/>
            <a:chExt cx="1901520" cy="368280"/>
          </a:xfrm>
        </p:grpSpPr>
        <p:sp>
          <p:nvSpPr>
            <p:cNvPr id="98" name=""/>
            <p:cNvSpPr/>
            <p:nvPr/>
          </p:nvSpPr>
          <p:spPr>
            <a:xfrm>
              <a:off x="6647040" y="4992840"/>
              <a:ext cx="180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54520" y="4648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4648320"/>
            <a:ext cx="4495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What do you no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705720" y="5486400"/>
            <a:ext cx="2133360" cy="787320"/>
            <a:chOff x="6705720" y="5486400"/>
            <a:chExt cx="2133360" cy="787320"/>
          </a:xfrm>
        </p:grpSpPr>
        <p:sp>
          <p:nvSpPr>
            <p:cNvPr id="102" name=""/>
            <p:cNvSpPr/>
            <p:nvPr/>
          </p:nvSpPr>
          <p:spPr>
            <a:xfrm>
              <a:off x="6705720" y="5537520"/>
              <a:ext cx="213336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a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7631640" y="5486400"/>
                  <a:ext cx="9255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5943600" y="3200400"/>
            <a:ext cx="2133720" cy="787320"/>
            <a:chOff x="5943600" y="3200400"/>
            <a:chExt cx="2133720" cy="787320"/>
          </a:xfrm>
        </p:grpSpPr>
        <p:sp>
          <p:nvSpPr>
            <p:cNvPr id="105" name=""/>
            <p:cNvSpPr/>
            <p:nvPr/>
          </p:nvSpPr>
          <p:spPr>
            <a:xfrm>
              <a:off x="5943600" y="3251520"/>
              <a:ext cx="213372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a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869520" y="3200400"/>
                  <a:ext cx="9255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the slope for each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36160" cy="4908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16002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403848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66680" y="2895480"/>
            <a:ext cx="587520" cy="1143000"/>
            <a:chOff x="1066680" y="2895480"/>
            <a:chExt cx="587520" cy="1143000"/>
          </a:xfrm>
        </p:grpSpPr>
        <p:sp>
          <p:nvSpPr>
            <p:cNvPr id="112" name=""/>
            <p:cNvSpPr/>
            <p:nvPr/>
          </p:nvSpPr>
          <p:spPr>
            <a:xfrm>
              <a:off x="1447920" y="2895480"/>
              <a:ext cx="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350532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47920" y="4038480"/>
            <a:ext cx="1676160" cy="368280"/>
            <a:chOff x="1447920" y="4038480"/>
            <a:chExt cx="1676160" cy="368280"/>
          </a:xfrm>
        </p:grpSpPr>
        <p:sp>
          <p:nvSpPr>
            <p:cNvPr id="115" name=""/>
            <p:cNvSpPr/>
            <p:nvPr/>
          </p:nvSpPr>
          <p:spPr>
            <a:xfrm>
              <a:off x="1447920" y="4038480"/>
              <a:ext cx="1676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40384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724280" y="3200400"/>
            <a:ext cx="1295640" cy="368280"/>
            <a:chOff x="4724280" y="3200400"/>
            <a:chExt cx="1295640" cy="368280"/>
          </a:xfrm>
        </p:grpSpPr>
        <p:sp>
          <p:nvSpPr>
            <p:cNvPr id="118" name=""/>
            <p:cNvSpPr/>
            <p:nvPr/>
          </p:nvSpPr>
          <p:spPr>
            <a:xfrm>
              <a:off x="4724280" y="350532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05520" y="32004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343400" y="3505320"/>
            <a:ext cx="587520" cy="1676160"/>
            <a:chOff x="4343400" y="3505320"/>
            <a:chExt cx="587520" cy="1676160"/>
          </a:xfrm>
        </p:grpSpPr>
        <p:sp>
          <p:nvSpPr>
            <p:cNvPr id="121" name=""/>
            <p:cNvSpPr/>
            <p:nvPr/>
          </p:nvSpPr>
          <p:spPr>
            <a:xfrm flipV="1">
              <a:off x="4724280" y="35053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3400" y="40384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38680" y="4038480"/>
            <a:ext cx="587520" cy="533520"/>
            <a:chOff x="5638680" y="4038480"/>
            <a:chExt cx="587520" cy="533520"/>
          </a:xfrm>
        </p:grpSpPr>
        <p:sp>
          <p:nvSpPr>
            <p:cNvPr id="124" name=""/>
            <p:cNvSpPr/>
            <p:nvPr/>
          </p:nvSpPr>
          <p:spPr>
            <a:xfrm flipV="1">
              <a:off x="6019920" y="403848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411480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400800" y="37339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525680" y="4267080"/>
            <a:ext cx="1069200" cy="749160"/>
            <a:chOff x="1525680" y="4267080"/>
            <a:chExt cx="1069200" cy="749160"/>
          </a:xfrm>
        </p:grpSpPr>
        <p:sp>
          <p:nvSpPr>
            <p:cNvPr id="128" name=""/>
            <p:cNvSpPr/>
            <p:nvPr/>
          </p:nvSpPr>
          <p:spPr>
            <a:xfrm>
              <a:off x="1525680" y="4495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5840" y="4495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11480" y="4647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11480" y="42670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6479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54680" y="1752480"/>
            <a:ext cx="992880" cy="749160"/>
            <a:chOff x="4954680" y="1752480"/>
            <a:chExt cx="992880" cy="749160"/>
          </a:xfrm>
        </p:grpSpPr>
        <p:sp>
          <p:nvSpPr>
            <p:cNvPr id="134" name=""/>
            <p:cNvSpPr/>
            <p:nvPr/>
          </p:nvSpPr>
          <p:spPr>
            <a:xfrm>
              <a:off x="4954680" y="1981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840" y="1981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40480" y="213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40480" y="1752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38680" y="21333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631200" y="3124080"/>
            <a:ext cx="992880" cy="749160"/>
            <a:chOff x="6631200" y="3124080"/>
            <a:chExt cx="992880" cy="749160"/>
          </a:xfrm>
        </p:grpSpPr>
        <p:sp>
          <p:nvSpPr>
            <p:cNvPr id="140" name=""/>
            <p:cNvSpPr/>
            <p:nvPr/>
          </p:nvSpPr>
          <p:spPr>
            <a:xfrm>
              <a:off x="6631200" y="3352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1360" y="3352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7000" y="350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7000" y="3124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5200" y="35049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545600" y="3733920"/>
            <a:ext cx="992880" cy="749160"/>
            <a:chOff x="7545600" y="3733920"/>
            <a:chExt cx="992880" cy="749160"/>
          </a:xfrm>
        </p:grpSpPr>
        <p:sp>
          <p:nvSpPr>
            <p:cNvPr id="146" name=""/>
            <p:cNvSpPr/>
            <p:nvPr/>
          </p:nvSpPr>
          <p:spPr>
            <a:xfrm>
              <a:off x="7545600" y="39625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25760" y="39625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31400" y="4114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31400" y="3733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29600" y="411480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954680" y="2438280"/>
            <a:ext cx="992880" cy="749160"/>
            <a:chOff x="4954680" y="2438280"/>
            <a:chExt cx="992880" cy="749160"/>
          </a:xfrm>
        </p:grpSpPr>
        <p:sp>
          <p:nvSpPr>
            <p:cNvPr id="152" name=""/>
            <p:cNvSpPr/>
            <p:nvPr/>
          </p:nvSpPr>
          <p:spPr>
            <a:xfrm>
              <a:off x="4954680" y="266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4840" y="26668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0480" y="281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4048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8680" y="28191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601640" y="5029200"/>
            <a:ext cx="1133280" cy="749160"/>
            <a:chOff x="1601640" y="5029200"/>
            <a:chExt cx="1133280" cy="749160"/>
          </a:xfrm>
        </p:grpSpPr>
        <p:sp>
          <p:nvSpPr>
            <p:cNvPr id="158" name=""/>
            <p:cNvSpPr/>
            <p:nvPr/>
          </p:nvSpPr>
          <p:spPr>
            <a:xfrm>
              <a:off x="2133720" y="5410080"/>
              <a:ext cx="304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601640" y="5029200"/>
              <a:ext cx="1133280" cy="749160"/>
              <a:chOff x="1601640" y="5029200"/>
              <a:chExt cx="1133280" cy="749160"/>
            </a:xfrm>
          </p:grpSpPr>
          <p:sp>
            <p:nvSpPr>
              <p:cNvPr id="160" name=""/>
              <p:cNvSpPr/>
              <p:nvPr/>
            </p:nvSpPr>
            <p:spPr>
              <a:xfrm>
                <a:off x="1601640" y="5257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29880" y="52578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35520" y="5410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35520" y="5029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39720" y="5257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6173640" y="2133720"/>
            <a:ext cx="1133280" cy="749160"/>
            <a:chOff x="6173640" y="2133720"/>
            <a:chExt cx="1133280" cy="749160"/>
          </a:xfrm>
        </p:grpSpPr>
        <p:sp>
          <p:nvSpPr>
            <p:cNvPr id="166" name=""/>
            <p:cNvSpPr/>
            <p:nvPr/>
          </p:nvSpPr>
          <p:spPr>
            <a:xfrm>
              <a:off x="6705720" y="2514600"/>
              <a:ext cx="304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173640" y="2133720"/>
              <a:ext cx="1133280" cy="749160"/>
              <a:chOff x="6173640" y="2133720"/>
              <a:chExt cx="1133280" cy="749160"/>
            </a:xfrm>
          </p:grpSpPr>
          <p:sp>
            <p:nvSpPr>
              <p:cNvPr id="168" name=""/>
              <p:cNvSpPr/>
              <p:nvPr/>
            </p:nvSpPr>
            <p:spPr>
              <a:xfrm>
                <a:off x="6173640" y="2362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1880" y="23623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07520" y="2514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07520" y="2133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011720" y="2362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7468920" y="4572000"/>
            <a:ext cx="1133280" cy="749160"/>
            <a:chOff x="7468920" y="4572000"/>
            <a:chExt cx="1133280" cy="749160"/>
          </a:xfrm>
        </p:grpSpPr>
        <p:sp>
          <p:nvSpPr>
            <p:cNvPr id="174" name=""/>
            <p:cNvSpPr/>
            <p:nvPr/>
          </p:nvSpPr>
          <p:spPr>
            <a:xfrm>
              <a:off x="8001000" y="4952880"/>
              <a:ext cx="304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468920" y="4572000"/>
              <a:ext cx="1133280" cy="749160"/>
              <a:chOff x="7468920" y="4572000"/>
              <a:chExt cx="1133280" cy="749160"/>
            </a:xfrm>
          </p:grpSpPr>
          <p:sp>
            <p:nvSpPr>
              <p:cNvPr id="176" name=""/>
              <p:cNvSpPr/>
              <p:nvPr/>
            </p:nvSpPr>
            <p:spPr>
              <a:xfrm>
                <a:off x="7468920" y="48006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697160" y="48006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02800" y="4952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02800" y="4572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07000" y="48006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m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 represents the slope of th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steep the lin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erator tells us to go up or down (R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nominator tells us to go RIGHT (R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umerator is positive we go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umerator is negative we go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you the pattern in a table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lop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m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66680" y="15238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66680" y="28954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4444920"/>
                <a:ext cx="17528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table and look at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410080" y="1600200"/>
          <a:ext cx="2286000" cy="3581280"/>
        </p:xfrm>
        <a:graphic>
          <a:graphicData uri="http://schemas.openxmlformats.org/drawingml/2006/table">
            <a:tbl>
              <a:tblPr/>
              <a:tblGrid>
                <a:gridCol w="1257480"/>
                <a:gridCol w="1028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= 2x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42900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x =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y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ation has +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8:24:04Z</dcterms:created>
  <dc:creator>slawekmi</dc:creator>
  <dc:description/>
  <dc:language>en-US</dc:language>
  <cp:lastModifiedBy>HeistM</cp:lastModifiedBy>
  <dcterms:modified xsi:type="dcterms:W3CDTF">2008-07-09T17:50:28Z</dcterms:modified>
  <cp:revision>15</cp:revision>
  <dc:subject/>
  <dc:title/>
</cp:coreProperties>
</file>